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971b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6"/>
          </p:nvPr>
        </p:nvSpPr>
        <p:spPr>
          <a:xfrm>
            <a:off x="4021200" y="972324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2AD9F951-A3E6-4B7C-B7CA-4FCC73A729B7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B13B8721-EDC6-4735-B756-1A2AA08CC00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3C869DBA-B8ED-42CF-B1FE-1FC403627C9B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6F9984B8-18CB-4301-9742-97F4A155A86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CA57F9C8-A2F0-40A4-9158-896C2069098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3B4127EA-2D46-4FBF-9490-131E32A38F5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E60197D1-C1B3-4B23-8325-D69C0355D56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1F6DE902-5610-41D2-A6E0-418C669BD0F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36132261-FFD6-40CC-A987-E54294FC055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6E505EB0-4E84-4B24-A901-DCD44B09750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F4630191-6636-4C0A-8A82-42D5B6BD504B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9155CFA9-F6AA-45AD-B806-29881CCE8EE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B6DAF806-E3AC-4A9B-BA62-3B95DA39506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0E8AC066-7D67-44E9-BD55-8F5ACAE2885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6C76E474-4B12-4009-894B-313AAE3B11E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35EE02DE-22FF-4EE3-8375-C6F228ABA41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406357DC-F211-4581-A323-58E5BD962D8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BE4A8728-16E2-4875-AF34-BE0B891ECCD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5D81EB21-1032-4F2C-B0C7-6264B5EEF9D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44E85006-925B-4EAE-9504-0B1F8F79A683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12D73ECA-A0B6-4C1E-81E8-E20815FAECD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73F287C5-A292-4292-85F6-D6E63917470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B4F45E12-386F-4F02-BBBC-19AD074663B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2160" y="770040"/>
            <a:ext cx="5114880" cy="38368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3"/>
          <p:cNvSpPr/>
          <p:nvPr/>
        </p:nvSpPr>
        <p:spPr>
          <a:xfrm>
            <a:off x="4021200" y="9723600"/>
            <a:ext cx="3076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b">
            <a:noAutofit/>
          </a:bodyPr>
          <a:p>
            <a:pPr algn="r"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E211B01E-6BCC-4D1F-A098-86280C078A5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C66E-7990-4DFE-BFD9-466542588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280" y="399276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5333-BC09-4BE7-93C0-AADAA7BEE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28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880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4347-267D-4EAD-9483-C13C6EB97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3840" y="162864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2400" y="162864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280" y="399276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3840" y="399276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2400" y="399276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DF75-5324-43BF-9DE1-7122DF04C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55280" y="16286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7151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5528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280" y="16286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6481-5231-4C3A-9686-DA5A3EC59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880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55280" y="399276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55280" y="399276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5528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880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3840" y="162864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2400" y="162864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55280" y="399276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3840" y="399276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2400" y="399276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9C2-1435-4F36-981A-857D9874D3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280" y="16286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C088-B1A8-40FB-971A-ECFF454DBF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0DA1-C7A3-4256-9BF8-A5BD74EA5A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CF79-7D37-47B4-881E-F7515EEAEE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9D65-8A0E-41C4-BD5F-4DF07356B1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4270-2587-4603-B758-1E51552E56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7151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832-EAD1-40BF-AF2A-7C50C3A542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5528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CFE-2C58-466B-B2DE-A416870E58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0880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A1D-C295-4A4A-940B-103FD1F4E4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55280" y="399276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7398-045B-485F-B42F-B9F04B6256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55280" y="399276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784-2529-4C9F-B06B-BFD32AF429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5528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0880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15B-85E5-46A6-8DA8-3196086E7A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63840" y="162864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2400" y="162864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55280" y="399276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63840" y="399276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2400" y="399276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B8C-15BF-40B7-BF0A-2D3D5CDC0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F272-38F9-4517-A442-8C9D3D057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56F0-5592-4529-BDCA-203E2E130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7151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FBE1-8424-4014-95B2-78FCBE855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28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6970-2808-4A83-BC9B-8D0721623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880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148D-76E8-4A3D-85F7-C18F8DE2E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280" y="399276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4F3A-B27C-4428-936A-AD7127CD6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971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16286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2" marL="1839960" indent="-228600">
              <a:spcBef>
                <a:spcPts val="799"/>
              </a:spcBef>
              <a:buClr>
                <a:srgbClr val="f49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3" marL="2247840" indent="-228600">
              <a:spcBef>
                <a:spcPts val="799"/>
              </a:spcBef>
              <a:buClr>
                <a:srgbClr val="f491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4" marL="2655720" indent="-228600">
              <a:spcBef>
                <a:spcPts val="799"/>
              </a:spcBef>
              <a:buClr>
                <a:srgbClr val="f491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5" marL="265572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6" marL="265572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443280" y="652428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7D36-6E8A-4CC3-AC9C-6371CF7497A4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4" descr="LogoINRA-Gris"/>
          <p:cNvPicPr/>
          <p:nvPr/>
        </p:nvPicPr>
        <p:blipFill>
          <a:blip r:embed="rId2"/>
          <a:stretch/>
        </p:blipFill>
        <p:spPr>
          <a:xfrm>
            <a:off x="8101080" y="6453360"/>
            <a:ext cx="904680" cy="323640"/>
          </a:xfrm>
          <a:prstGeom prst="rect">
            <a:avLst/>
          </a:prstGeom>
          <a:ln w="0">
            <a:noFill/>
          </a:ln>
        </p:spPr>
      </p:pic>
      <p:sp>
        <p:nvSpPr>
          <p:cNvPr id="4" name="Text Box 25"/>
          <p:cNvSpPr/>
          <p:nvPr/>
        </p:nvSpPr>
        <p:spPr>
          <a:xfrm>
            <a:off x="108000" y="630864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969696"/>
                </a:solidFill>
                <a:latin typeface="Eurostile Bold"/>
              </a:rPr>
              <a:t>Direction du Système d’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Rectangle à coins arrondis 10" descr=""/>
          <p:cNvPicPr/>
          <p:nvPr/>
        </p:nvPicPr>
        <p:blipFill>
          <a:blip r:embed="rId3"/>
          <a:stretch/>
        </p:blipFill>
        <p:spPr>
          <a:xfrm>
            <a:off x="328680" y="1054080"/>
            <a:ext cx="855972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LogoINRA-Gris"/>
          <p:cNvPicPr/>
          <p:nvPr/>
        </p:nvPicPr>
        <p:blipFill>
          <a:blip r:embed="rId2"/>
          <a:stretch/>
        </p:blipFill>
        <p:spPr>
          <a:xfrm>
            <a:off x="8101080" y="6453360"/>
            <a:ext cx="904680" cy="323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8"/>
          <p:cNvSpPr/>
          <p:nvPr/>
        </p:nvSpPr>
        <p:spPr>
          <a:xfrm>
            <a:off x="108000" y="630864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969696"/>
                </a:solidFill>
                <a:latin typeface="Eurostile Bold"/>
              </a:rPr>
              <a:t>Direction du Système d’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mage 12" descr="charteAP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426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971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16286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2" marL="1839960" indent="-228600">
              <a:spcBef>
                <a:spcPts val="799"/>
              </a:spcBef>
              <a:buClr>
                <a:srgbClr val="f49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3" marL="2247840" indent="-228600">
              <a:spcBef>
                <a:spcPts val="799"/>
              </a:spcBef>
              <a:buClr>
                <a:srgbClr val="f491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4" marL="2655720" indent="-228600">
              <a:spcBef>
                <a:spcPts val="799"/>
              </a:spcBef>
              <a:buClr>
                <a:srgbClr val="f491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5" marL="265572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6" marL="265572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4" descr="LogoINRA-Gris"/>
          <p:cNvPicPr/>
          <p:nvPr/>
        </p:nvPicPr>
        <p:blipFill>
          <a:blip r:embed="rId2"/>
          <a:stretch/>
        </p:blipFill>
        <p:spPr>
          <a:xfrm>
            <a:off x="8101080" y="6453360"/>
            <a:ext cx="904680" cy="323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5"/>
          <p:cNvSpPr/>
          <p:nvPr/>
        </p:nvSpPr>
        <p:spPr>
          <a:xfrm>
            <a:off x="108000" y="630864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969696"/>
                </a:solidFill>
                <a:latin typeface="Eurostile Bold"/>
              </a:rPr>
              <a:t>Direction du Système d’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ectangle à coins arrondis 10" descr=""/>
          <p:cNvPicPr/>
          <p:nvPr/>
        </p:nvPicPr>
        <p:blipFill>
          <a:blip r:embed="rId3"/>
          <a:stretch/>
        </p:blipFill>
        <p:spPr>
          <a:xfrm>
            <a:off x="328680" y="1054080"/>
            <a:ext cx="855972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971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16286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2" marL="1839960" indent="-228600">
              <a:spcBef>
                <a:spcPts val="799"/>
              </a:spcBef>
              <a:buClr>
                <a:srgbClr val="f49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3" marL="2247840" indent="-228600">
              <a:spcBef>
                <a:spcPts val="799"/>
              </a:spcBef>
              <a:buClr>
                <a:srgbClr val="f491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4" marL="2655720" indent="-228600">
              <a:spcBef>
                <a:spcPts val="799"/>
              </a:spcBef>
              <a:buClr>
                <a:srgbClr val="f491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5" marL="265572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6" marL="265572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2"/>
          </p:nvPr>
        </p:nvSpPr>
        <p:spPr>
          <a:xfrm>
            <a:off x="298728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3"/>
          </p:nvPr>
        </p:nvSpPr>
        <p:spPr>
          <a:xfrm>
            <a:off x="6443280" y="652428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9E9E-356D-40A4-9C31-D28115A766EC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ctivites@inra.fr" TargetMode="External"/><Relationship Id="rId2" Type="http://schemas.openxmlformats.org/officeDocument/2006/relationships/hyperlink" Target="https://intranet-saisie-activites.inra.fr/maintenance/docs/manuel_utilisateurs_activites.pdf" TargetMode="External"/><Relationship Id="rId3" Type="http://schemas.openxmlformats.org/officeDocument/2006/relationships/hyperlink" Target="http://www.inra.fr/activites_produits/vos_questions/activite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intranet-saisie-activites.inra.fr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539640" y="3348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5400" spc="-1" strike="noStrike">
                <a:solidFill>
                  <a:srgbClr val="f3971b"/>
                </a:solidFill>
                <a:latin typeface="Calibri"/>
              </a:rPr>
              <a:t>Collecte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Rectangle 3" descr=""/>
          <p:cNvPicPr/>
          <p:nvPr/>
        </p:nvPicPr>
        <p:blipFill>
          <a:blip r:embed="rId1"/>
          <a:stretch/>
        </p:blipFill>
        <p:spPr>
          <a:xfrm>
            <a:off x="633240" y="2494080"/>
            <a:ext cx="6731280" cy="871560"/>
          </a:xfrm>
          <a:prstGeom prst="rect">
            <a:avLst/>
          </a:prstGeom>
          <a:ln w="0">
            <a:noFill/>
          </a:ln>
        </p:spPr>
      </p:pic>
      <p:sp>
        <p:nvSpPr>
          <p:cNvPr id="135" name="ZoneTexte 4"/>
          <p:cNvSpPr/>
          <p:nvPr/>
        </p:nvSpPr>
        <p:spPr>
          <a:xfrm>
            <a:off x="2500200" y="514368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436ba7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436ba7"/>
                </a:solidFill>
                <a:latin typeface="Arial"/>
              </a:rPr>
              <a:t>Dal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Unité DSI-P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5480" y="259920"/>
            <a:ext cx="87152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Les donnée à saisir  pour chaque AC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5280" y="1357200"/>
            <a:ext cx="8424720" cy="48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Intitulés, dates, type d’AC, unités participantes s’il y a lieu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Saisie par onglets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Animateur 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Champs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Mots-clés (sauf pour les ACA)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Participation des agents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6ba7"/>
                </a:solidFill>
                <a:latin typeface="Calibri"/>
              </a:rPr>
              <a:t>tris facilitant la saisie - possibilité de saisie d’agents hors unité</a:t>
            </a:r>
            <a:endParaRPr b="0" lang="en-US" sz="20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Description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2" marL="811080" indent="-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4A80-B441-4C8C-8CCA-08948885B542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Publication des modifications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93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23FC-59D7-477E-ABFA-A4FE64F7E331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e 15"/>
          <p:cNvGrpSpPr/>
          <p:nvPr/>
        </p:nvGrpSpPr>
        <p:grpSpPr>
          <a:xfrm>
            <a:off x="771480" y="1500120"/>
            <a:ext cx="2443320" cy="3977280"/>
            <a:chOff x="771480" y="1500120"/>
            <a:chExt cx="2443320" cy="3977280"/>
          </a:xfrm>
        </p:grpSpPr>
        <p:sp>
          <p:nvSpPr>
            <p:cNvPr id="196" name="ZoneTexte 6"/>
            <p:cNvSpPr/>
            <p:nvPr/>
          </p:nvSpPr>
          <p:spPr>
            <a:xfrm>
              <a:off x="1071360" y="1500120"/>
              <a:ext cx="214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Saisie complè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lèche vers le bas 9"/>
            <p:cNvSpPr/>
            <p:nvPr/>
          </p:nvSpPr>
          <p:spPr>
            <a:xfrm>
              <a:off x="1671480" y="1928520"/>
              <a:ext cx="571320" cy="785880"/>
            </a:xfrm>
            <a:prstGeom prst="downArrow">
              <a:avLst>
                <a:gd name="adj1" fmla="val 50000"/>
                <a:gd name="adj2" fmla="val 50023"/>
              </a:avLst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Picture 2" descr=""/>
            <p:cNvPicPr/>
            <p:nvPr/>
          </p:nvPicPr>
          <p:blipFill>
            <a:blip r:embed="rId1"/>
            <a:srcRect l="58336" t="80838" r="32814" b="14165"/>
            <a:stretch/>
          </p:blipFill>
          <p:spPr>
            <a:xfrm>
              <a:off x="1357200" y="2857320"/>
              <a:ext cx="121464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Flèche vers le bas 14"/>
            <p:cNvSpPr/>
            <p:nvPr/>
          </p:nvSpPr>
          <p:spPr>
            <a:xfrm>
              <a:off x="1657440" y="3386160"/>
              <a:ext cx="571320" cy="714240"/>
            </a:xfrm>
            <a:prstGeom prst="downArrow">
              <a:avLst>
                <a:gd name="adj1" fmla="val 50000"/>
                <a:gd name="adj2" fmla="val 50006"/>
              </a:avLst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ZoneTexte 15"/>
            <p:cNvSpPr/>
            <p:nvPr/>
          </p:nvSpPr>
          <p:spPr>
            <a:xfrm>
              <a:off x="771480" y="4286160"/>
              <a:ext cx="235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rise en compte des modifications et publication dans l’annua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e 16"/>
          <p:cNvGrpSpPr/>
          <p:nvPr/>
        </p:nvGrpSpPr>
        <p:grpSpPr>
          <a:xfrm>
            <a:off x="4295880" y="1571760"/>
            <a:ext cx="4286160" cy="1747800"/>
            <a:chOff x="4295880" y="1571760"/>
            <a:chExt cx="4286160" cy="1747800"/>
          </a:xfrm>
        </p:grpSpPr>
        <p:pic>
          <p:nvPicPr>
            <p:cNvPr id="202" name="Picture 2" descr=""/>
            <p:cNvPicPr/>
            <p:nvPr/>
          </p:nvPicPr>
          <p:blipFill>
            <a:blip r:embed="rId2"/>
            <a:srcRect l="26042" t="80838" r="42709" b="14165"/>
            <a:stretch/>
          </p:blipFill>
          <p:spPr>
            <a:xfrm>
              <a:off x="4295880" y="2891160"/>
              <a:ext cx="428616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ZoneTexte 18"/>
            <p:cNvSpPr/>
            <p:nvPr/>
          </p:nvSpPr>
          <p:spPr>
            <a:xfrm>
              <a:off x="4716360" y="157176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Saisie incomplète (mode brouill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lèche vers le bas 19"/>
            <p:cNvSpPr/>
            <p:nvPr/>
          </p:nvSpPr>
          <p:spPr>
            <a:xfrm>
              <a:off x="6143760" y="2000160"/>
              <a:ext cx="571320" cy="785880"/>
            </a:xfrm>
            <a:prstGeom prst="downArrow">
              <a:avLst>
                <a:gd name="adj1" fmla="val 50000"/>
                <a:gd name="adj2" fmla="val 50023"/>
              </a:avLst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e 18"/>
          <p:cNvGrpSpPr/>
          <p:nvPr/>
        </p:nvGrpSpPr>
        <p:grpSpPr>
          <a:xfrm>
            <a:off x="5286240" y="3357720"/>
            <a:ext cx="3426120" cy="2394360"/>
            <a:chOff x="5286240" y="3357720"/>
            <a:chExt cx="3426120" cy="2394360"/>
          </a:xfrm>
        </p:grpSpPr>
        <p:pic>
          <p:nvPicPr>
            <p:cNvPr id="206" name="Image 17" descr="signal_attention.gif"/>
            <p:cNvPicPr/>
            <p:nvPr/>
          </p:nvPicPr>
          <p:blipFill>
            <a:blip r:embed="rId3"/>
            <a:stretch/>
          </p:blipFill>
          <p:spPr>
            <a:xfrm>
              <a:off x="7643880" y="3357720"/>
              <a:ext cx="10684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Flèche vers le bas 20"/>
            <p:cNvSpPr/>
            <p:nvPr/>
          </p:nvSpPr>
          <p:spPr>
            <a:xfrm>
              <a:off x="6143400" y="3429000"/>
              <a:ext cx="571320" cy="714240"/>
            </a:xfrm>
            <a:prstGeom prst="downArrow">
              <a:avLst>
                <a:gd name="adj1" fmla="val 50000"/>
                <a:gd name="adj2" fmla="val 50006"/>
              </a:avLst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ZoneTexte 21"/>
            <p:cNvSpPr/>
            <p:nvPr/>
          </p:nvSpPr>
          <p:spPr>
            <a:xfrm>
              <a:off x="5286240" y="4286520"/>
              <a:ext cx="2357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rise en compte des modifications et suppression dans l’annuaire jusqu’à valid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La création d’une activité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55280" y="162864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A l’initiative de l’unité porteuse ou leader  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1" marL="898560" indent="-446040">
              <a:spcBef>
                <a:spcPts val="601"/>
              </a:spcBef>
              <a:buClr>
                <a:srgbClr val="f491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Définie par  la lettre de mission après évaluation des unités 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Proposée pour validation au chef de département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Après validation, visible dans l’annuaire si description complète et validée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314C-D9BC-45B4-8F98-AA35DF9A0AAB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Image 10" descr="page_description.PNG"/>
          <p:cNvPicPr/>
          <p:nvPr/>
        </p:nvPicPr>
        <p:blipFill>
          <a:blip r:embed="rId1"/>
          <a:stretch/>
        </p:blipFill>
        <p:spPr>
          <a:xfrm>
            <a:off x="90360" y="1413000"/>
            <a:ext cx="8874360" cy="43844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278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Editer le descriptif de ma structure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55C1-0D1A-4910-A9EC-3ABA31A922A4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à coins arrondis 8"/>
          <p:cNvSpPr/>
          <p:nvPr/>
        </p:nvSpPr>
        <p:spPr>
          <a:xfrm>
            <a:off x="71280" y="2643120"/>
            <a:ext cx="1116000" cy="425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Image 11" descr="coordonnes.PNG"/>
          <p:cNvPicPr/>
          <p:nvPr/>
        </p:nvPicPr>
        <p:blipFill>
          <a:blip r:embed="rId2"/>
          <a:stretch/>
        </p:blipFill>
        <p:spPr>
          <a:xfrm>
            <a:off x="3916440" y="2997360"/>
            <a:ext cx="5227560" cy="2468520"/>
          </a:xfrm>
          <a:prstGeom prst="rect">
            <a:avLst/>
          </a:prstGeom>
          <a:ln w="0">
            <a:noFill/>
          </a:ln>
        </p:spPr>
      </p:pic>
      <p:pic>
        <p:nvPicPr>
          <p:cNvPr id="219" name="Image 12" descr="missions.PNG"/>
          <p:cNvPicPr/>
          <p:nvPr/>
        </p:nvPicPr>
        <p:blipFill>
          <a:blip r:embed="rId3"/>
          <a:stretch/>
        </p:blipFill>
        <p:spPr>
          <a:xfrm>
            <a:off x="108000" y="4292640"/>
            <a:ext cx="4294080" cy="20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Fiche Annuaire / Structure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55280" y="1628640"/>
            <a:ext cx="7715160" cy="4525920"/>
          </a:xfrm>
          <a:prstGeom prst="rect">
            <a:avLst/>
          </a:prstGeom>
          <a:ln w="0">
            <a:noFill/>
          </a:ln>
        </p:spPr>
      </p:pic>
      <p:sp>
        <p:nvSpPr>
          <p:cNvPr id="222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D56B-60EF-4880-9112-C18AF0B0ECD4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2"/>
          <a:srcRect l="0" t="0" r="0" b="4461"/>
          <a:stretch/>
        </p:blipFill>
        <p:spPr>
          <a:xfrm>
            <a:off x="1154160" y="1073160"/>
            <a:ext cx="7316640" cy="44416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à coins arrondis 9"/>
          <p:cNvSpPr/>
          <p:nvPr/>
        </p:nvSpPr>
        <p:spPr>
          <a:xfrm>
            <a:off x="9134640" y="214956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e 23"/>
          <p:cNvGrpSpPr/>
          <p:nvPr/>
        </p:nvGrpSpPr>
        <p:grpSpPr>
          <a:xfrm>
            <a:off x="108000" y="1517760"/>
            <a:ext cx="6283440" cy="4348440"/>
            <a:chOff x="108000" y="1517760"/>
            <a:chExt cx="6283440" cy="4348440"/>
          </a:xfrm>
        </p:grpSpPr>
        <p:sp>
          <p:nvSpPr>
            <p:cNvPr id="227" name="Rectangle à coins arrondis 10"/>
            <p:cNvSpPr/>
            <p:nvPr/>
          </p:nvSpPr>
          <p:spPr>
            <a:xfrm>
              <a:off x="198720" y="1555560"/>
              <a:ext cx="1083960" cy="301320"/>
            </a:xfrm>
            <a:prstGeom prst="wedgeRoundRectCallout">
              <a:avLst>
                <a:gd name="adj1" fmla="val 56560"/>
                <a:gd name="adj2" fmla="val 15467"/>
                <a:gd name="adj3" fmla="val 16667"/>
              </a:avLst>
            </a:prstGeom>
            <a:solidFill>
              <a:srgbClr val="dbe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Mand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à coins arrondis 11"/>
            <p:cNvSpPr/>
            <p:nvPr/>
          </p:nvSpPr>
          <p:spPr>
            <a:xfrm>
              <a:off x="108000" y="3573360"/>
              <a:ext cx="1165320" cy="876600"/>
            </a:xfrm>
            <a:prstGeom prst="wedgeRoundRectCallout">
              <a:avLst>
                <a:gd name="adj1" fmla="val 60347"/>
                <a:gd name="adj2" fmla="val 11032"/>
                <a:gd name="adj3" fmla="val 16667"/>
              </a:avLst>
            </a:prstGeom>
            <a:solidFill>
              <a:srgbClr val="dbe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Centre de rattachement de la struc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à coins arrondis 13"/>
            <p:cNvSpPr/>
            <p:nvPr/>
          </p:nvSpPr>
          <p:spPr>
            <a:xfrm>
              <a:off x="1405080" y="1517760"/>
              <a:ext cx="1838160" cy="50004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8bac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à coins arrondis 14"/>
            <p:cNvSpPr/>
            <p:nvPr/>
          </p:nvSpPr>
          <p:spPr>
            <a:xfrm>
              <a:off x="1452960" y="4138920"/>
              <a:ext cx="1838160" cy="35856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8bac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ZoneTexte 18"/>
            <p:cNvSpPr/>
            <p:nvPr/>
          </p:nvSpPr>
          <p:spPr>
            <a:xfrm>
              <a:off x="360720" y="5497920"/>
              <a:ext cx="603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8bac1f"/>
                  </a:solidFill>
                  <a:latin typeface="Arial"/>
                </a:rPr>
                <a:t>Données issues du référentiel des Structu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à coins arrondis 29"/>
            <p:cNvSpPr/>
            <p:nvPr/>
          </p:nvSpPr>
          <p:spPr>
            <a:xfrm>
              <a:off x="248040" y="4524840"/>
              <a:ext cx="1155600" cy="461880"/>
            </a:xfrm>
            <a:prstGeom prst="wedgeRoundRectCallout">
              <a:avLst>
                <a:gd name="adj1" fmla="val 60347"/>
                <a:gd name="adj2" fmla="val 11032"/>
                <a:gd name="adj3" fmla="val 16667"/>
              </a:avLst>
            </a:prstGeom>
            <a:solidFill>
              <a:srgbClr val="dbe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Département pil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à coins arrondis 30"/>
            <p:cNvSpPr/>
            <p:nvPr/>
          </p:nvSpPr>
          <p:spPr>
            <a:xfrm>
              <a:off x="1492560" y="4564440"/>
              <a:ext cx="1995480" cy="46044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8bac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à coins arrondis 33"/>
            <p:cNvSpPr/>
            <p:nvPr/>
          </p:nvSpPr>
          <p:spPr>
            <a:xfrm>
              <a:off x="1389240" y="2301840"/>
              <a:ext cx="2089080" cy="3934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8bac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à coins arrondis 34"/>
            <p:cNvSpPr/>
            <p:nvPr/>
          </p:nvSpPr>
          <p:spPr>
            <a:xfrm>
              <a:off x="219240" y="2122560"/>
              <a:ext cx="1082520" cy="498240"/>
            </a:xfrm>
            <a:prstGeom prst="wedgeRoundRectCallout">
              <a:avLst>
                <a:gd name="adj1" fmla="val 56560"/>
                <a:gd name="adj2" fmla="val 15467"/>
                <a:gd name="adj3" fmla="val 16667"/>
              </a:avLst>
            </a:prstGeom>
            <a:solidFill>
              <a:srgbClr val="dbee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dresse du site princip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e 24"/>
          <p:cNvGrpSpPr/>
          <p:nvPr/>
        </p:nvGrpSpPr>
        <p:grpSpPr>
          <a:xfrm>
            <a:off x="361800" y="1717560"/>
            <a:ext cx="7971120" cy="4489920"/>
            <a:chOff x="361800" y="1717560"/>
            <a:chExt cx="7971120" cy="4489920"/>
          </a:xfrm>
        </p:grpSpPr>
        <p:sp>
          <p:nvSpPr>
            <p:cNvPr id="237" name="ZoneTexte 20"/>
            <p:cNvSpPr/>
            <p:nvPr/>
          </p:nvSpPr>
          <p:spPr>
            <a:xfrm>
              <a:off x="361800" y="5839200"/>
              <a:ext cx="603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800000"/>
                  </a:solidFill>
                  <a:latin typeface="Arial"/>
                </a:rPr>
                <a:t>Données issues du référentiel des Activit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à coins arrondis 21"/>
            <p:cNvSpPr/>
            <p:nvPr/>
          </p:nvSpPr>
          <p:spPr>
            <a:xfrm>
              <a:off x="4008240" y="1998360"/>
              <a:ext cx="4324680" cy="35722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à coins arrondis 35"/>
            <p:cNvSpPr/>
            <p:nvPr/>
          </p:nvSpPr>
          <p:spPr>
            <a:xfrm>
              <a:off x="4944960" y="1717560"/>
              <a:ext cx="957240" cy="2347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à coins arrondis 36"/>
            <p:cNvSpPr/>
            <p:nvPr/>
          </p:nvSpPr>
          <p:spPr>
            <a:xfrm>
              <a:off x="3946320" y="1728360"/>
              <a:ext cx="958680" cy="2347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e 25"/>
          <p:cNvGrpSpPr/>
          <p:nvPr/>
        </p:nvGrpSpPr>
        <p:grpSpPr>
          <a:xfrm>
            <a:off x="363600" y="2065320"/>
            <a:ext cx="8732880" cy="4453560"/>
            <a:chOff x="363600" y="2065320"/>
            <a:chExt cx="8732880" cy="4453560"/>
          </a:xfrm>
        </p:grpSpPr>
        <p:sp>
          <p:nvSpPr>
            <p:cNvPr id="242" name="Rectangle à coins arrondis 31"/>
            <p:cNvSpPr/>
            <p:nvPr/>
          </p:nvSpPr>
          <p:spPr>
            <a:xfrm>
              <a:off x="1398600" y="2065320"/>
              <a:ext cx="2306520" cy="2062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à coins arrondis 32"/>
            <p:cNvSpPr/>
            <p:nvPr/>
          </p:nvSpPr>
          <p:spPr>
            <a:xfrm>
              <a:off x="1390680" y="2727360"/>
              <a:ext cx="2306520" cy="138276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ZoneTexte 37"/>
            <p:cNvSpPr/>
            <p:nvPr/>
          </p:nvSpPr>
          <p:spPr>
            <a:xfrm>
              <a:off x="363600" y="6150600"/>
              <a:ext cx="873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6633"/>
                  </a:solidFill>
                  <a:latin typeface="Arial"/>
                </a:rPr>
                <a:t>Données complémentaires Structures mises à jour dans « Activités 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47116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Une équipe pour vous accompagner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28400" y="1714680"/>
            <a:ext cx="8429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00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Des présentations en réunion de département et dans les centres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00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00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Support :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activites@inra.fr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00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Des documents d’aide :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Un guid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Une faq, des vidéos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601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601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47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89BD-839D-4D7E-A128-809F98C5BDCD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Caractéristiques d’une ACR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50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CAB0-F7A4-48DC-9694-6AA5523A2DB8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llipse 5"/>
          <p:cNvSpPr/>
          <p:nvPr/>
        </p:nvSpPr>
        <p:spPr>
          <a:xfrm>
            <a:off x="4143240" y="3000240"/>
            <a:ext cx="1000440" cy="928800"/>
          </a:xfrm>
          <a:prstGeom prst="ellipse">
            <a:avLst/>
          </a:prstGeom>
          <a:noFill/>
          <a:ln w="25560">
            <a:solidFill>
              <a:srgbClr val="f4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A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à coins arrondis 6"/>
          <p:cNvSpPr/>
          <p:nvPr/>
        </p:nvSpPr>
        <p:spPr>
          <a:xfrm>
            <a:off x="1214280" y="314316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ad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36ba7"/>
                </a:solidFill>
                <a:latin typeface="Arial"/>
              </a:rPr>
              <a:t>Unité l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lèche droite rayée 7"/>
          <p:cNvSpPr/>
          <p:nvPr/>
        </p:nvSpPr>
        <p:spPr>
          <a:xfrm>
            <a:off x="2786040" y="3214800"/>
            <a:ext cx="1285920" cy="428400"/>
          </a:xfrm>
          <a:custGeom>
            <a:avLst/>
            <a:gdLst>
              <a:gd name="textAreaLeft" fmla="*/ 66960 w 1285920"/>
              <a:gd name="textAreaRight" fmla="*/ 1214640 w 1285920"/>
              <a:gd name="textAreaTop" fmla="*/ 135720 h 428400"/>
              <a:gd name="textAreaBottom" fmla="*/ 292680 h 428400"/>
            </a:gdLst>
            <a:ahLst/>
            <a:rect l="textAreaLeft" t="textAreaTop" r="textAreaRight" b="textAreaBottom"/>
            <a:pathLst>
              <a:path w="1285875" h="428625">
                <a:moveTo>
                  <a:pt x="0" y="135733"/>
                </a:moveTo>
                <a:lnTo>
                  <a:pt x="13395" y="135733"/>
                </a:lnTo>
                <a:lnTo>
                  <a:pt x="13395" y="292892"/>
                </a:lnTo>
                <a:lnTo>
                  <a:pt x="0" y="292892"/>
                </a:lnTo>
                <a:close/>
                <a:moveTo>
                  <a:pt x="26789" y="135733"/>
                </a:moveTo>
                <a:lnTo>
                  <a:pt x="53578" y="135733"/>
                </a:lnTo>
                <a:lnTo>
                  <a:pt x="53578" y="292892"/>
                </a:lnTo>
                <a:lnTo>
                  <a:pt x="26789" y="292892"/>
                </a:lnTo>
                <a:close/>
                <a:moveTo>
                  <a:pt x="66973" y="135733"/>
                </a:moveTo>
                <a:lnTo>
                  <a:pt x="1090611" y="135733"/>
                </a:lnTo>
                <a:lnTo>
                  <a:pt x="1090611" y="0"/>
                </a:lnTo>
                <a:lnTo>
                  <a:pt x="1285875" y="214313"/>
                </a:lnTo>
                <a:lnTo>
                  <a:pt x="1090611" y="428625"/>
                </a:lnTo>
                <a:lnTo>
                  <a:pt x="1090611" y="292892"/>
                </a:lnTo>
                <a:lnTo>
                  <a:pt x="66973" y="292892"/>
                </a:lnTo>
                <a:close/>
              </a:path>
            </a:pathLst>
          </a:custGeom>
          <a:solidFill>
            <a:srgbClr val="fad5a4"/>
          </a:solidFill>
          <a:ln w="25560">
            <a:solidFill>
              <a:srgbClr val="f4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0"/>
          <p:cNvSpPr/>
          <p:nvPr/>
        </p:nvSpPr>
        <p:spPr>
          <a:xfrm>
            <a:off x="5000760" y="3860640"/>
            <a:ext cx="31431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claration de la participation des chercheurs/ingéni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rticipation calculée des agents des autres caté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à coins arrondis 10"/>
          <p:cNvSpPr/>
          <p:nvPr/>
        </p:nvSpPr>
        <p:spPr>
          <a:xfrm>
            <a:off x="3786120" y="4857840"/>
            <a:ext cx="1928880" cy="428400"/>
          </a:xfrm>
          <a:prstGeom prst="roundRect">
            <a:avLst>
              <a:gd name="adj" fmla="val 16667"/>
            </a:avLst>
          </a:prstGeom>
          <a:solidFill>
            <a:srgbClr val="7c9cca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lèche droite rayée 12"/>
          <p:cNvSpPr/>
          <p:nvPr/>
        </p:nvSpPr>
        <p:spPr>
          <a:xfrm rot="16200000">
            <a:off x="4357800" y="4214880"/>
            <a:ext cx="714240" cy="428400"/>
          </a:xfrm>
          <a:custGeom>
            <a:avLst/>
            <a:gdLst>
              <a:gd name="textAreaLeft" fmla="*/ 66960 w 714240"/>
              <a:gd name="textAreaRight" fmla="*/ 607320 w 71424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714375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close/>
                <a:moveTo>
                  <a:pt x="66973" y="107156"/>
                </a:moveTo>
                <a:lnTo>
                  <a:pt x="500063" y="107156"/>
                </a:lnTo>
                <a:lnTo>
                  <a:pt x="500063" y="0"/>
                </a:lnTo>
                <a:lnTo>
                  <a:pt x="714375" y="214313"/>
                </a:lnTo>
                <a:lnTo>
                  <a:pt x="500063" y="428625"/>
                </a:lnTo>
                <a:lnTo>
                  <a:pt x="500063" y="321469"/>
                </a:lnTo>
                <a:lnTo>
                  <a:pt x="66973" y="321469"/>
                </a:lnTo>
                <a:close/>
              </a:path>
            </a:pathLst>
          </a:custGeom>
          <a:solidFill>
            <a:srgbClr val="7c9cca"/>
          </a:solidFill>
          <a:ln w="25560">
            <a:solidFill>
              <a:srgbClr val="436b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à coins arrondis 15"/>
          <p:cNvSpPr/>
          <p:nvPr/>
        </p:nvSpPr>
        <p:spPr>
          <a:xfrm>
            <a:off x="6516720" y="2781360"/>
            <a:ext cx="1440000" cy="503280"/>
          </a:xfrm>
          <a:prstGeom prst="wedgeRoundRectCallout">
            <a:avLst>
              <a:gd name="adj1" fmla="val -141541"/>
              <a:gd name="adj2" fmla="val 61143"/>
              <a:gd name="adj3" fmla="val 16667"/>
            </a:avLst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ots-cl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e 19"/>
          <p:cNvGrpSpPr/>
          <p:nvPr/>
        </p:nvGrpSpPr>
        <p:grpSpPr>
          <a:xfrm>
            <a:off x="1214280" y="3706560"/>
            <a:ext cx="2960280" cy="1079640"/>
            <a:chOff x="1214280" y="3706560"/>
            <a:chExt cx="2960280" cy="1079640"/>
          </a:xfrm>
        </p:grpSpPr>
        <p:sp>
          <p:nvSpPr>
            <p:cNvPr id="260" name="Rectangle à coins arrondis 16"/>
            <p:cNvSpPr/>
            <p:nvPr/>
          </p:nvSpPr>
          <p:spPr>
            <a:xfrm>
              <a:off x="1214280" y="4143240"/>
              <a:ext cx="1428840" cy="642960"/>
            </a:xfrm>
            <a:prstGeom prst="roundRect">
              <a:avLst>
                <a:gd name="adj" fmla="val 16667"/>
              </a:avLst>
            </a:prstGeom>
            <a:solidFill>
              <a:srgbClr val="fad5a4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436ba7"/>
                  </a:solidFill>
                  <a:latin typeface="Arial"/>
                </a:rPr>
                <a:t>Unité(s) participante(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lèche droite rayée 17"/>
            <p:cNvSpPr/>
            <p:nvPr/>
          </p:nvSpPr>
          <p:spPr>
            <a:xfrm rot="20359200">
              <a:off x="2854440" y="3919320"/>
              <a:ext cx="1285920" cy="428400"/>
            </a:xfrm>
            <a:custGeom>
              <a:avLst/>
              <a:gdLst>
                <a:gd name="textAreaLeft" fmla="*/ 66960 w 1285920"/>
                <a:gd name="textAreaRight" fmla="*/ 1214640 w 1285920"/>
                <a:gd name="textAreaTop" fmla="*/ 135720 h 428400"/>
                <a:gd name="textAreaBottom" fmla="*/ 292680 h 428400"/>
              </a:gdLst>
              <a:ahLst/>
              <a:rect l="textAreaLeft" t="textAreaTop" r="textAreaRight" b="textAreaBottom"/>
              <a:pathLst>
                <a:path w="1285875" h="428625">
                  <a:moveTo>
                    <a:pt x="0" y="135733"/>
                  </a:moveTo>
                  <a:lnTo>
                    <a:pt x="13395" y="135733"/>
                  </a:lnTo>
                  <a:lnTo>
                    <a:pt x="13395" y="292892"/>
                  </a:lnTo>
                  <a:lnTo>
                    <a:pt x="0" y="292892"/>
                  </a:lnTo>
                  <a:close/>
                  <a:moveTo>
                    <a:pt x="26789" y="135733"/>
                  </a:moveTo>
                  <a:lnTo>
                    <a:pt x="53578" y="135733"/>
                  </a:lnTo>
                  <a:lnTo>
                    <a:pt x="53578" y="292892"/>
                  </a:lnTo>
                  <a:lnTo>
                    <a:pt x="26789" y="292892"/>
                  </a:lnTo>
                  <a:close/>
                  <a:moveTo>
                    <a:pt x="66973" y="135733"/>
                  </a:moveTo>
                  <a:lnTo>
                    <a:pt x="1090611" y="135733"/>
                  </a:lnTo>
                  <a:lnTo>
                    <a:pt x="1090611" y="0"/>
                  </a:lnTo>
                  <a:lnTo>
                    <a:pt x="1285875" y="214313"/>
                  </a:lnTo>
                  <a:lnTo>
                    <a:pt x="1090611" y="428625"/>
                  </a:lnTo>
                  <a:lnTo>
                    <a:pt x="1090611" y="292892"/>
                  </a:lnTo>
                  <a:lnTo>
                    <a:pt x="66973" y="292892"/>
                  </a:lnTo>
                  <a:close/>
                </a:path>
              </a:pathLst>
            </a:custGeom>
            <a:solidFill>
              <a:srgbClr val="fad5a4">
                <a:alpha val="51000"/>
              </a:srgbClr>
            </a:solidFill>
            <a:ln w="25560">
              <a:solidFill>
                <a:srgbClr val="fad5a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Rectangle à coins arrondis 18"/>
          <p:cNvSpPr/>
          <p:nvPr/>
        </p:nvSpPr>
        <p:spPr>
          <a:xfrm>
            <a:off x="3786120" y="5429160"/>
            <a:ext cx="1928880" cy="428760"/>
          </a:xfrm>
          <a:prstGeom prst="roundRect">
            <a:avLst>
              <a:gd name="adj" fmla="val 16667"/>
            </a:avLst>
          </a:prstGeom>
          <a:solidFill>
            <a:srgbClr val="7c9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nimateur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e 20"/>
          <p:cNvGrpSpPr/>
          <p:nvPr/>
        </p:nvGrpSpPr>
        <p:grpSpPr>
          <a:xfrm>
            <a:off x="3276720" y="1484280"/>
            <a:ext cx="2938320" cy="1444680"/>
            <a:chOff x="3276720" y="1484280"/>
            <a:chExt cx="2938320" cy="1444680"/>
          </a:xfrm>
        </p:grpSpPr>
        <p:sp>
          <p:nvSpPr>
            <p:cNvPr id="264" name="Rectangle à coins arrondis 8"/>
            <p:cNvSpPr/>
            <p:nvPr/>
          </p:nvSpPr>
          <p:spPr>
            <a:xfrm>
              <a:off x="3571920" y="1500120"/>
              <a:ext cx="2000160" cy="9288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lèche droite rayée 11"/>
            <p:cNvSpPr/>
            <p:nvPr/>
          </p:nvSpPr>
          <p:spPr>
            <a:xfrm rot="16200000">
              <a:off x="4429080" y="2500560"/>
              <a:ext cx="428400" cy="428400"/>
            </a:xfrm>
            <a:custGeom>
              <a:avLst/>
              <a:gdLst>
                <a:gd name="textAreaLeft" fmla="*/ 66960 w 428400"/>
                <a:gd name="textAreaRight" fmla="*/ 321480 w 428400"/>
                <a:gd name="textAreaTop" fmla="*/ 106920 h 428400"/>
                <a:gd name="textAreaBottom" fmla="*/ 321480 h 428400"/>
              </a:gdLst>
              <a:ahLst/>
              <a:rect l="textAreaLeft" t="textAreaTop" r="textAreaRight" b="textAreaBottom"/>
              <a:pathLst>
                <a:path w="428485" h="428734">
                  <a:moveTo>
                    <a:pt x="0" y="107184"/>
                  </a:moveTo>
                  <a:lnTo>
                    <a:pt x="13390" y="107184"/>
                  </a:lnTo>
                  <a:lnTo>
                    <a:pt x="13390" y="321551"/>
                  </a:lnTo>
                  <a:lnTo>
                    <a:pt x="0" y="321551"/>
                  </a:lnTo>
                  <a:close/>
                  <a:moveTo>
                    <a:pt x="26780" y="107184"/>
                  </a:moveTo>
                  <a:lnTo>
                    <a:pt x="53561" y="107184"/>
                  </a:lnTo>
                  <a:lnTo>
                    <a:pt x="53561" y="321551"/>
                  </a:lnTo>
                  <a:lnTo>
                    <a:pt x="26780" y="321551"/>
                  </a:lnTo>
                  <a:close/>
                  <a:moveTo>
                    <a:pt x="66951" y="107184"/>
                  </a:moveTo>
                  <a:lnTo>
                    <a:pt x="214243" y="107184"/>
                  </a:lnTo>
                  <a:lnTo>
                    <a:pt x="214243" y="0"/>
                  </a:lnTo>
                  <a:lnTo>
                    <a:pt x="428485" y="214367"/>
                  </a:lnTo>
                  <a:lnTo>
                    <a:pt x="214243" y="428734"/>
                  </a:lnTo>
                  <a:lnTo>
                    <a:pt x="214243" y="321551"/>
                  </a:lnTo>
                  <a:lnTo>
                    <a:pt x="66951" y="321551"/>
                  </a:lnTo>
                  <a:close/>
                </a:path>
              </a:pathLst>
            </a:custGeom>
            <a:noFill/>
            <a:ln w="25560">
              <a:solidFill>
                <a:srgbClr val="f49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à coins arrondis 13"/>
            <p:cNvSpPr/>
            <p:nvPr/>
          </p:nvSpPr>
          <p:spPr>
            <a:xfrm>
              <a:off x="3276720" y="1484280"/>
              <a:ext cx="2938320" cy="873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ZoneTexte 19"/>
            <p:cNvSpPr/>
            <p:nvPr/>
          </p:nvSpPr>
          <p:spPr>
            <a:xfrm>
              <a:off x="3276720" y="1642320"/>
              <a:ext cx="29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00000"/>
                  </a:solidFill>
                  <a:latin typeface="Arial"/>
                </a:rPr>
                <a:t>Champs thématiques (C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00000"/>
                  </a:solidFill>
                  <a:latin typeface="Arial"/>
                </a:rPr>
                <a:t>1 min - 2 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57B5-5601-4485-A409-D5DCE6AE14F2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3971b"/>
                </a:solidFill>
                <a:latin typeface="Calibri"/>
              </a:rPr>
              <a:t>Mots clés : entrées thématiques</a:t>
            </a:r>
            <a:endParaRPr b="0" lang="en-US" sz="40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f491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19e2a"/>
                </a:solidFill>
                <a:latin typeface="Calibri"/>
              </a:rPr>
              <a:t>Objet d’étude : organisme ou système biologiqu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f491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19e2a"/>
                </a:solidFill>
                <a:latin typeface="Calibri"/>
              </a:rPr>
              <a:t>Question sociétale et finalité, context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f491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9e2a"/>
                </a:solidFill>
                <a:latin typeface="Calibri"/>
              </a:rPr>
              <a:t>Démarche, disciplin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50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6ba7"/>
              </a:solidFill>
              <a:latin typeface="Calibri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f491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36ba7"/>
                </a:solidFill>
                <a:latin typeface="Calibri"/>
              </a:rPr>
              <a:t>Échelle d’étud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f491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36ba7"/>
                </a:solidFill>
                <a:latin typeface="Calibri"/>
              </a:rPr>
              <a:t>Localisation géographiqu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f491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Dispositif technique et méthode d’étud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f491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Composé chimique, Facteur du milieu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f491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36ba7"/>
                </a:solidFill>
                <a:latin typeface="Calibri"/>
              </a:rPr>
              <a:t>Phénomène, processus et fonction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36ba7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36ba7"/>
                </a:solidFill>
                <a:latin typeface="Calibri"/>
              </a:rPr>
              <a:t>Pour faciliter votre saisie, la liste des mots-clés référencés par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36ba7"/>
                </a:solidFill>
                <a:latin typeface="Calibri"/>
              </a:rPr>
              <a:t>entrées thématiques sera disponibl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785880" y="2357280"/>
            <a:ext cx="11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Caractéristiques d’une ACS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73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E32F-96A1-4AC7-A9BE-4701703BFCF2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Ellipse 5"/>
          <p:cNvSpPr/>
          <p:nvPr/>
        </p:nvSpPr>
        <p:spPr>
          <a:xfrm>
            <a:off x="4214880" y="3143160"/>
            <a:ext cx="1000080" cy="928800"/>
          </a:xfrm>
          <a:prstGeom prst="ellipse">
            <a:avLst/>
          </a:prstGeom>
          <a:noFill/>
          <a:ln w="25560">
            <a:solidFill>
              <a:srgbClr val="f4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à coins arrondis 6"/>
          <p:cNvSpPr/>
          <p:nvPr/>
        </p:nvSpPr>
        <p:spPr>
          <a:xfrm>
            <a:off x="1357200" y="335772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ad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Unité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lèche droite rayée 7"/>
          <p:cNvSpPr/>
          <p:nvPr/>
        </p:nvSpPr>
        <p:spPr>
          <a:xfrm>
            <a:off x="2857680" y="3429000"/>
            <a:ext cx="1285560" cy="428760"/>
          </a:xfrm>
          <a:custGeom>
            <a:avLst/>
            <a:gdLst>
              <a:gd name="textAreaLeft" fmla="*/ 66960 w 1285560"/>
              <a:gd name="textAreaRight" fmla="*/ 1214280 w 1285560"/>
              <a:gd name="textAreaTop" fmla="*/ 135720 h 428760"/>
              <a:gd name="textAreaBottom" fmla="*/ 293040 h 428760"/>
            </a:gdLst>
            <a:ahLst/>
            <a:rect l="textAreaLeft" t="textAreaTop" r="textAreaRight" b="textAreaBottom"/>
            <a:pathLst>
              <a:path w="1285875" h="428625">
                <a:moveTo>
                  <a:pt x="0" y="135733"/>
                </a:moveTo>
                <a:lnTo>
                  <a:pt x="13395" y="135733"/>
                </a:lnTo>
                <a:lnTo>
                  <a:pt x="13395" y="292892"/>
                </a:lnTo>
                <a:lnTo>
                  <a:pt x="0" y="292892"/>
                </a:lnTo>
                <a:close/>
                <a:moveTo>
                  <a:pt x="26789" y="135733"/>
                </a:moveTo>
                <a:lnTo>
                  <a:pt x="53578" y="135733"/>
                </a:lnTo>
                <a:lnTo>
                  <a:pt x="53578" y="292892"/>
                </a:lnTo>
                <a:lnTo>
                  <a:pt x="26789" y="292892"/>
                </a:lnTo>
                <a:close/>
                <a:moveTo>
                  <a:pt x="66973" y="135733"/>
                </a:moveTo>
                <a:lnTo>
                  <a:pt x="1090611" y="135733"/>
                </a:lnTo>
                <a:lnTo>
                  <a:pt x="1090611" y="0"/>
                </a:lnTo>
                <a:lnTo>
                  <a:pt x="1285875" y="214313"/>
                </a:lnTo>
                <a:lnTo>
                  <a:pt x="1090611" y="428625"/>
                </a:lnTo>
                <a:lnTo>
                  <a:pt x="1090611" y="292892"/>
                </a:lnTo>
                <a:lnTo>
                  <a:pt x="66973" y="292892"/>
                </a:lnTo>
                <a:close/>
              </a:path>
            </a:pathLst>
          </a:custGeom>
          <a:solidFill>
            <a:srgbClr val="fad5a4"/>
          </a:solidFill>
          <a:ln w="25560">
            <a:solidFill>
              <a:srgbClr val="f4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à coins arrondis 10"/>
          <p:cNvSpPr/>
          <p:nvPr/>
        </p:nvSpPr>
        <p:spPr>
          <a:xfrm>
            <a:off x="3786120" y="4857840"/>
            <a:ext cx="1928880" cy="428400"/>
          </a:xfrm>
          <a:prstGeom prst="roundRect">
            <a:avLst>
              <a:gd name="adj" fmla="val 16667"/>
            </a:avLst>
          </a:prstGeom>
          <a:solidFill>
            <a:srgbClr val="7c9cca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lèche droite rayée 12"/>
          <p:cNvSpPr/>
          <p:nvPr/>
        </p:nvSpPr>
        <p:spPr>
          <a:xfrm rot="16200000">
            <a:off x="4429080" y="4285800"/>
            <a:ext cx="571320" cy="428400"/>
          </a:xfrm>
          <a:custGeom>
            <a:avLst/>
            <a:gdLst>
              <a:gd name="textAreaLeft" fmla="*/ 66960 w 571320"/>
              <a:gd name="textAreaRight" fmla="*/ 464400 w 57132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close/>
              </a:path>
            </a:pathLst>
          </a:custGeom>
          <a:solidFill>
            <a:srgbClr val="7c9cca"/>
          </a:solidFill>
          <a:ln w="25560">
            <a:solidFill>
              <a:srgbClr val="436b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e 23"/>
          <p:cNvGrpSpPr/>
          <p:nvPr/>
        </p:nvGrpSpPr>
        <p:grpSpPr>
          <a:xfrm>
            <a:off x="500040" y="1285920"/>
            <a:ext cx="3825000" cy="1950120"/>
            <a:chOff x="500040" y="1285920"/>
            <a:chExt cx="3825000" cy="1950120"/>
          </a:xfrm>
        </p:grpSpPr>
        <p:sp>
          <p:nvSpPr>
            <p:cNvPr id="281" name="Rectangle à coins arrondis 8"/>
            <p:cNvSpPr/>
            <p:nvPr/>
          </p:nvSpPr>
          <p:spPr>
            <a:xfrm>
              <a:off x="785520" y="1571400"/>
              <a:ext cx="2000160" cy="9288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Champs thématiq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(C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lèche droite rayée 11"/>
            <p:cNvSpPr/>
            <p:nvPr/>
          </p:nvSpPr>
          <p:spPr>
            <a:xfrm rot="12393600">
              <a:off x="3181320" y="2582640"/>
              <a:ext cx="1106280" cy="428400"/>
            </a:xfrm>
            <a:custGeom>
              <a:avLst/>
              <a:gdLst>
                <a:gd name="textAreaLeft" fmla="*/ 66960 w 1106280"/>
                <a:gd name="textAreaRight" fmla="*/ 999360 w 1106280"/>
                <a:gd name="textAreaTop" fmla="*/ 106920 h 428400"/>
                <a:gd name="textAreaBottom" fmla="*/ 321480 h 428400"/>
              </a:gdLst>
              <a:ahLst/>
              <a:rect l="textAreaLeft" t="textAreaTop" r="textAreaRight" b="textAreaBottom"/>
              <a:pathLst>
                <a:path w="1106488" h="428625">
                  <a:moveTo>
                    <a:pt x="0" y="107156"/>
                  </a:moveTo>
                  <a:lnTo>
                    <a:pt x="13395" y="107156"/>
                  </a:lnTo>
                  <a:lnTo>
                    <a:pt x="13395" y="321469"/>
                  </a:lnTo>
                  <a:lnTo>
                    <a:pt x="0" y="321469"/>
                  </a:lnTo>
                  <a:close/>
                  <a:moveTo>
                    <a:pt x="26789" y="107156"/>
                  </a:moveTo>
                  <a:lnTo>
                    <a:pt x="53578" y="107156"/>
                  </a:lnTo>
                  <a:lnTo>
                    <a:pt x="53578" y="321469"/>
                  </a:lnTo>
                  <a:lnTo>
                    <a:pt x="26789" y="321469"/>
                  </a:lnTo>
                  <a:close/>
                  <a:moveTo>
                    <a:pt x="66973" y="107156"/>
                  </a:moveTo>
                  <a:lnTo>
                    <a:pt x="892176" y="107156"/>
                  </a:lnTo>
                  <a:lnTo>
                    <a:pt x="892176" y="0"/>
                  </a:lnTo>
                  <a:lnTo>
                    <a:pt x="1106488" y="214313"/>
                  </a:lnTo>
                  <a:lnTo>
                    <a:pt x="892176" y="428625"/>
                  </a:lnTo>
                  <a:lnTo>
                    <a:pt x="892176" y="321469"/>
                  </a:lnTo>
                  <a:lnTo>
                    <a:pt x="66973" y="321469"/>
                  </a:lnTo>
                  <a:close/>
                </a:path>
              </a:pathLst>
            </a:custGeom>
            <a:noFill/>
            <a:ln w="25560">
              <a:solidFill>
                <a:srgbClr val="c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à coins arrondis 13"/>
            <p:cNvSpPr/>
            <p:nvPr/>
          </p:nvSpPr>
          <p:spPr>
            <a:xfrm>
              <a:off x="500040" y="1285920"/>
              <a:ext cx="2714760" cy="1214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éparte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à coins arrondis 15"/>
          <p:cNvSpPr/>
          <p:nvPr/>
        </p:nvSpPr>
        <p:spPr>
          <a:xfrm>
            <a:off x="6500880" y="3286080"/>
            <a:ext cx="1571400" cy="357120"/>
          </a:xfrm>
          <a:prstGeom prst="wedgeRoundRectCallout">
            <a:avLst>
              <a:gd name="adj1" fmla="val -126541"/>
              <a:gd name="adj2" fmla="val 38500"/>
              <a:gd name="adj3" fmla="val 16667"/>
            </a:avLst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ts-c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à coins arrondis 16"/>
          <p:cNvSpPr/>
          <p:nvPr/>
        </p:nvSpPr>
        <p:spPr>
          <a:xfrm>
            <a:off x="1428840" y="435780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ad5a4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Unité particip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lèche droite rayée 17"/>
          <p:cNvSpPr/>
          <p:nvPr/>
        </p:nvSpPr>
        <p:spPr>
          <a:xfrm rot="20359200">
            <a:off x="2963880" y="4070160"/>
            <a:ext cx="1285920" cy="428400"/>
          </a:xfrm>
          <a:custGeom>
            <a:avLst/>
            <a:gdLst>
              <a:gd name="textAreaLeft" fmla="*/ 66960 w 1285920"/>
              <a:gd name="textAreaRight" fmla="*/ 1214640 w 1285920"/>
              <a:gd name="textAreaTop" fmla="*/ 135720 h 428400"/>
              <a:gd name="textAreaBottom" fmla="*/ 292680 h 428400"/>
            </a:gdLst>
            <a:ahLst/>
            <a:rect l="textAreaLeft" t="textAreaTop" r="textAreaRight" b="textAreaBottom"/>
            <a:pathLst>
              <a:path w="1285875" h="428625">
                <a:moveTo>
                  <a:pt x="0" y="135733"/>
                </a:moveTo>
                <a:lnTo>
                  <a:pt x="13395" y="135733"/>
                </a:lnTo>
                <a:lnTo>
                  <a:pt x="13395" y="292892"/>
                </a:lnTo>
                <a:lnTo>
                  <a:pt x="0" y="292892"/>
                </a:lnTo>
                <a:close/>
                <a:moveTo>
                  <a:pt x="26789" y="135733"/>
                </a:moveTo>
                <a:lnTo>
                  <a:pt x="53578" y="135733"/>
                </a:lnTo>
                <a:lnTo>
                  <a:pt x="53578" y="292892"/>
                </a:lnTo>
                <a:lnTo>
                  <a:pt x="26789" y="292892"/>
                </a:lnTo>
                <a:close/>
                <a:moveTo>
                  <a:pt x="66973" y="135733"/>
                </a:moveTo>
                <a:lnTo>
                  <a:pt x="1090611" y="135733"/>
                </a:lnTo>
                <a:lnTo>
                  <a:pt x="1090611" y="0"/>
                </a:lnTo>
                <a:lnTo>
                  <a:pt x="1285875" y="214313"/>
                </a:lnTo>
                <a:lnTo>
                  <a:pt x="1090611" y="428625"/>
                </a:lnTo>
                <a:lnTo>
                  <a:pt x="1090611" y="292892"/>
                </a:lnTo>
                <a:lnTo>
                  <a:pt x="66973" y="292892"/>
                </a:lnTo>
                <a:close/>
              </a:path>
            </a:pathLst>
          </a:custGeom>
          <a:solidFill>
            <a:srgbClr val="fad5a4">
              <a:alpha val="51000"/>
            </a:srgbClr>
          </a:solidFill>
          <a:ln w="25560">
            <a:solidFill>
              <a:srgbClr val="fad5a4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à coins arrondis 18"/>
          <p:cNvSpPr/>
          <p:nvPr/>
        </p:nvSpPr>
        <p:spPr>
          <a:xfrm>
            <a:off x="3786120" y="5429160"/>
            <a:ext cx="1928880" cy="428760"/>
          </a:xfrm>
          <a:prstGeom prst="roundRect">
            <a:avLst>
              <a:gd name="adj" fmla="val 16667"/>
            </a:avLst>
          </a:prstGeom>
          <a:solidFill>
            <a:srgbClr val="7c9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imateu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e 22"/>
          <p:cNvGrpSpPr/>
          <p:nvPr/>
        </p:nvGrpSpPr>
        <p:grpSpPr>
          <a:xfrm>
            <a:off x="3929040" y="1285920"/>
            <a:ext cx="5000760" cy="2037600"/>
            <a:chOff x="3929040" y="1285920"/>
            <a:chExt cx="5000760" cy="2037600"/>
          </a:xfrm>
        </p:grpSpPr>
        <p:sp>
          <p:nvSpPr>
            <p:cNvPr id="289" name="Rectangle à coins arrondis 19"/>
            <p:cNvSpPr/>
            <p:nvPr/>
          </p:nvSpPr>
          <p:spPr>
            <a:xfrm>
              <a:off x="3929040" y="1571400"/>
              <a:ext cx="5000760" cy="9288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Champs fonctionnels de support scientifique (CFS et sous-CF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Domaines et sous-doma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à coins arrondis 20"/>
            <p:cNvSpPr/>
            <p:nvPr/>
          </p:nvSpPr>
          <p:spPr>
            <a:xfrm>
              <a:off x="3929040" y="1285920"/>
              <a:ext cx="4786560" cy="1214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NO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lèche droite rayée 21"/>
            <p:cNvSpPr/>
            <p:nvPr/>
          </p:nvSpPr>
          <p:spPr>
            <a:xfrm rot="19354800">
              <a:off x="5037120" y="2662200"/>
              <a:ext cx="911160" cy="428400"/>
            </a:xfrm>
            <a:custGeom>
              <a:avLst/>
              <a:gdLst>
                <a:gd name="textAreaLeft" fmla="*/ 66960 w 911160"/>
                <a:gd name="textAreaRight" fmla="*/ 804240 w 911160"/>
                <a:gd name="textAreaTop" fmla="*/ 106920 h 428400"/>
                <a:gd name="textAreaBottom" fmla="*/ 321480 h 428400"/>
              </a:gdLst>
              <a:ahLst/>
              <a:rect l="textAreaLeft" t="textAreaTop" r="textAreaRight" b="textAreaBottom"/>
              <a:pathLst>
                <a:path w="911225" h="428625">
                  <a:moveTo>
                    <a:pt x="0" y="107156"/>
                  </a:moveTo>
                  <a:lnTo>
                    <a:pt x="13395" y="107156"/>
                  </a:lnTo>
                  <a:lnTo>
                    <a:pt x="13395" y="321469"/>
                  </a:lnTo>
                  <a:lnTo>
                    <a:pt x="0" y="321469"/>
                  </a:lnTo>
                  <a:close/>
                  <a:moveTo>
                    <a:pt x="26789" y="107156"/>
                  </a:moveTo>
                  <a:lnTo>
                    <a:pt x="53578" y="107156"/>
                  </a:lnTo>
                  <a:lnTo>
                    <a:pt x="53578" y="321469"/>
                  </a:lnTo>
                  <a:lnTo>
                    <a:pt x="26789" y="321469"/>
                  </a:lnTo>
                  <a:close/>
                  <a:moveTo>
                    <a:pt x="66973" y="107156"/>
                  </a:moveTo>
                  <a:lnTo>
                    <a:pt x="696913" y="107156"/>
                  </a:lnTo>
                  <a:lnTo>
                    <a:pt x="696913" y="0"/>
                  </a:lnTo>
                  <a:lnTo>
                    <a:pt x="911225" y="214313"/>
                  </a:lnTo>
                  <a:lnTo>
                    <a:pt x="696913" y="428625"/>
                  </a:lnTo>
                  <a:lnTo>
                    <a:pt x="696913" y="321469"/>
                  </a:lnTo>
                  <a:lnTo>
                    <a:pt x="66973" y="321469"/>
                  </a:lnTo>
                  <a:close/>
                </a:path>
              </a:pathLst>
            </a:custGeom>
            <a:noFill/>
            <a:ln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90"/>
          <p:cNvSpPr/>
          <p:nvPr/>
        </p:nvSpPr>
        <p:spPr>
          <a:xfrm>
            <a:off x="5000760" y="3860640"/>
            <a:ext cx="314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claration de la participation de l’ensemble des agent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unité et hors unit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CFS et Domaines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85520" y="12859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Champs fonctionnels de support scientifique (CFS) :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Labels INRA, autres (Ibisa, …)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Sous-champs fonctionnels de support scientifique :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Typologie des outils collectifs (plateformes, plateaux, ateliers, …)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95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1977-A924-44F2-B258-EF4AD9A5CC55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contenu 2"/>
          <p:cNvSpPr/>
          <p:nvPr/>
        </p:nvSpPr>
        <p:spPr>
          <a:xfrm>
            <a:off x="785880" y="5072040"/>
            <a:ext cx="80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Domaines : génomique, bioinformatique,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Sous-doma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Les objectifs…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71320" y="1428480"/>
            <a:ext cx="83581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93400" indent="-293400">
              <a:spcBef>
                <a:spcPts val="60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Cartographie de l'ensemble des activités de l'institut fin 2010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770040" indent="-294120">
              <a:spcBef>
                <a:spcPts val="4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6ba7"/>
                </a:solidFill>
                <a:latin typeface="Calibri"/>
              </a:rPr>
              <a:t>courrier de lancement de la collecte DG </a:t>
            </a:r>
            <a:r>
              <a:rPr b="0" lang="fr-FR" sz="2000" spc="-1" strike="noStrike">
                <a:solidFill>
                  <a:srgbClr val="436ba7"/>
                </a:solidFill>
                <a:latin typeface="Wingdings"/>
                <a:ea typeface="Wingdings"/>
              </a:rPr>
              <a:t></a:t>
            </a:r>
            <a:r>
              <a:rPr b="0" lang="fr-FR" sz="2000" spc="-1" strike="noStrike">
                <a:solidFill>
                  <a:srgbClr val="436ba7"/>
                </a:solidFill>
                <a:latin typeface="Calibri"/>
              </a:rPr>
              <a:t> CD (9/11/2010)</a:t>
            </a:r>
            <a:endParaRPr b="0" lang="en-US" sz="2000" spc="-1" strike="noStrike">
              <a:solidFill>
                <a:srgbClr val="436ba7"/>
              </a:solidFill>
              <a:latin typeface="Calibri"/>
            </a:endParaRPr>
          </a:p>
          <a:p>
            <a:pPr lvl="1" marL="770040" indent="-294120">
              <a:spcBef>
                <a:spcPts val="4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6ba7"/>
                </a:solidFill>
                <a:latin typeface="Calibri"/>
              </a:rPr>
              <a:t>Relayé CD </a:t>
            </a:r>
            <a:r>
              <a:rPr b="0" lang="fr-FR" sz="2000" spc="-1" strike="noStrike">
                <a:solidFill>
                  <a:srgbClr val="436ba7"/>
                </a:solidFill>
                <a:latin typeface="Wingdings"/>
                <a:ea typeface="Wingdings"/>
              </a:rPr>
              <a:t></a:t>
            </a:r>
            <a:r>
              <a:rPr b="0" lang="fr-FR" sz="2000" spc="-1" strike="noStrike">
                <a:solidFill>
                  <a:srgbClr val="436ba7"/>
                </a:solidFill>
                <a:latin typeface="Calibri"/>
              </a:rPr>
              <a:t> DU</a:t>
            </a:r>
            <a:endParaRPr b="0" lang="en-US" sz="2000" spc="-1" strike="noStrike">
              <a:solidFill>
                <a:srgbClr val="436ba7"/>
              </a:solidFill>
              <a:latin typeface="Calibri"/>
            </a:endParaRPr>
          </a:p>
          <a:p>
            <a:pPr marL="293400" indent="-293400">
              <a:spcBef>
                <a:spcPts val="60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Communication interne et extern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770040" indent="-294120">
              <a:spcBef>
                <a:spcPts val="4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6ba7"/>
                </a:solidFill>
                <a:latin typeface="Calibri"/>
              </a:rPr>
              <a:t>Annuaires</a:t>
            </a:r>
            <a:endParaRPr b="0" lang="en-US" sz="2000" spc="-1" strike="noStrike">
              <a:solidFill>
                <a:srgbClr val="436ba7"/>
              </a:solidFill>
              <a:latin typeface="Calibri"/>
            </a:endParaRPr>
          </a:p>
          <a:p>
            <a:pPr marL="293400" indent="-293400">
              <a:spcBef>
                <a:spcPts val="60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Outils de reporting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770040" indent="-294120">
              <a:spcBef>
                <a:spcPts val="4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6ba7"/>
                </a:solidFill>
                <a:latin typeface="Calibri"/>
              </a:rPr>
              <a:t>Restitutions</a:t>
            </a:r>
            <a:endParaRPr b="0" lang="en-US" sz="2000" spc="-1" strike="noStrike">
              <a:solidFill>
                <a:srgbClr val="436ba7"/>
              </a:solidFill>
              <a:latin typeface="Calibri"/>
            </a:endParaRPr>
          </a:p>
          <a:p>
            <a:pPr lvl="1" marL="770040" indent="-294120">
              <a:spcBef>
                <a:spcPts val="4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6ba7"/>
                </a:solidFill>
                <a:latin typeface="Calibri"/>
              </a:rPr>
              <a:t>Synthèses, indicateurs</a:t>
            </a:r>
            <a:endParaRPr b="0" lang="en-US" sz="20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38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98C7-1645-48A3-A861-4F40FC77CC66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contenu 2"/>
          <p:cNvSpPr/>
          <p:nvPr/>
        </p:nvSpPr>
        <p:spPr>
          <a:xfrm>
            <a:off x="571680" y="4572000"/>
            <a:ext cx="8358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Des données intégrées au système d’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446040">
              <a:lnSpc>
                <a:spcPct val="100000"/>
              </a:lnSpc>
              <a:spcBef>
                <a:spcPts val="4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6ba7"/>
                </a:solidFill>
                <a:latin typeface="Calibri"/>
                <a:ea typeface="Arial"/>
              </a:rPr>
              <a:t>Référentiels institutio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446040">
              <a:lnSpc>
                <a:spcPct val="100000"/>
              </a:lnSpc>
              <a:spcBef>
                <a:spcPts val="4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6ba7"/>
                </a:solidFill>
                <a:latin typeface="Calibri"/>
                <a:ea typeface="Arial"/>
              </a:rPr>
              <a:t>Saisie unique de l’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446040">
              <a:lnSpc>
                <a:spcPct val="100000"/>
              </a:lnSpc>
              <a:spcBef>
                <a:spcPts val="4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Caractéristiques d’une ACE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99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894A-B4CE-449A-8B32-765813544366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llipse 5"/>
          <p:cNvSpPr/>
          <p:nvPr/>
        </p:nvSpPr>
        <p:spPr>
          <a:xfrm>
            <a:off x="4214880" y="3143160"/>
            <a:ext cx="1000080" cy="928800"/>
          </a:xfrm>
          <a:prstGeom prst="ellipse">
            <a:avLst/>
          </a:prstGeom>
          <a:noFill/>
          <a:ln w="25560">
            <a:solidFill>
              <a:srgbClr val="f4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à coins arrondis 6"/>
          <p:cNvSpPr/>
          <p:nvPr/>
        </p:nvSpPr>
        <p:spPr>
          <a:xfrm>
            <a:off x="1187280" y="335772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ad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Unité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lèche droite rayée 7"/>
          <p:cNvSpPr/>
          <p:nvPr/>
        </p:nvSpPr>
        <p:spPr>
          <a:xfrm>
            <a:off x="2857680" y="3429000"/>
            <a:ext cx="1285560" cy="428760"/>
          </a:xfrm>
          <a:custGeom>
            <a:avLst/>
            <a:gdLst>
              <a:gd name="textAreaLeft" fmla="*/ 66960 w 1285560"/>
              <a:gd name="textAreaRight" fmla="*/ 1214280 w 1285560"/>
              <a:gd name="textAreaTop" fmla="*/ 135720 h 428760"/>
              <a:gd name="textAreaBottom" fmla="*/ 293040 h 428760"/>
            </a:gdLst>
            <a:ahLst/>
            <a:rect l="textAreaLeft" t="textAreaTop" r="textAreaRight" b="textAreaBottom"/>
            <a:pathLst>
              <a:path w="1285875" h="428625">
                <a:moveTo>
                  <a:pt x="0" y="135733"/>
                </a:moveTo>
                <a:lnTo>
                  <a:pt x="13395" y="135733"/>
                </a:lnTo>
                <a:lnTo>
                  <a:pt x="13395" y="292892"/>
                </a:lnTo>
                <a:lnTo>
                  <a:pt x="0" y="292892"/>
                </a:lnTo>
                <a:close/>
                <a:moveTo>
                  <a:pt x="26789" y="135733"/>
                </a:moveTo>
                <a:lnTo>
                  <a:pt x="53578" y="135733"/>
                </a:lnTo>
                <a:lnTo>
                  <a:pt x="53578" y="292892"/>
                </a:lnTo>
                <a:lnTo>
                  <a:pt x="26789" y="292892"/>
                </a:lnTo>
                <a:close/>
                <a:moveTo>
                  <a:pt x="66973" y="135733"/>
                </a:moveTo>
                <a:lnTo>
                  <a:pt x="1090611" y="135733"/>
                </a:lnTo>
                <a:lnTo>
                  <a:pt x="1090611" y="0"/>
                </a:lnTo>
                <a:lnTo>
                  <a:pt x="1285875" y="214313"/>
                </a:lnTo>
                <a:lnTo>
                  <a:pt x="1090611" y="428625"/>
                </a:lnTo>
                <a:lnTo>
                  <a:pt x="1090611" y="292892"/>
                </a:lnTo>
                <a:lnTo>
                  <a:pt x="66973" y="292892"/>
                </a:lnTo>
                <a:close/>
              </a:path>
            </a:pathLst>
          </a:custGeom>
          <a:solidFill>
            <a:srgbClr val="fad5a4"/>
          </a:solidFill>
          <a:ln w="25560">
            <a:solidFill>
              <a:srgbClr val="f4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à coins arrondis 10"/>
          <p:cNvSpPr/>
          <p:nvPr/>
        </p:nvSpPr>
        <p:spPr>
          <a:xfrm>
            <a:off x="3786120" y="4857840"/>
            <a:ext cx="1928880" cy="428400"/>
          </a:xfrm>
          <a:prstGeom prst="roundRect">
            <a:avLst>
              <a:gd name="adj" fmla="val 16667"/>
            </a:avLst>
          </a:prstGeom>
          <a:solidFill>
            <a:srgbClr val="7c9cca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lèche droite rayée 12"/>
          <p:cNvSpPr/>
          <p:nvPr/>
        </p:nvSpPr>
        <p:spPr>
          <a:xfrm rot="16200000">
            <a:off x="4429080" y="4285800"/>
            <a:ext cx="571320" cy="428400"/>
          </a:xfrm>
          <a:custGeom>
            <a:avLst/>
            <a:gdLst>
              <a:gd name="textAreaLeft" fmla="*/ 66960 w 571320"/>
              <a:gd name="textAreaRight" fmla="*/ 464400 w 57132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close/>
              </a:path>
            </a:pathLst>
          </a:custGeom>
          <a:solidFill>
            <a:srgbClr val="7c9cca"/>
          </a:solidFill>
          <a:ln w="25560">
            <a:solidFill>
              <a:srgbClr val="436b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e 23"/>
          <p:cNvGrpSpPr/>
          <p:nvPr/>
        </p:nvGrpSpPr>
        <p:grpSpPr>
          <a:xfrm>
            <a:off x="468360" y="1285920"/>
            <a:ext cx="3856680" cy="1950120"/>
            <a:chOff x="468360" y="1285920"/>
            <a:chExt cx="3856680" cy="1950120"/>
          </a:xfrm>
        </p:grpSpPr>
        <p:sp>
          <p:nvSpPr>
            <p:cNvPr id="307" name="Rectangle à coins arrondis 8"/>
            <p:cNvSpPr/>
            <p:nvPr/>
          </p:nvSpPr>
          <p:spPr>
            <a:xfrm>
              <a:off x="468360" y="1571400"/>
              <a:ext cx="2735280" cy="9288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Champs thématiq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(C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lèche droite rayée 11"/>
            <p:cNvSpPr/>
            <p:nvPr/>
          </p:nvSpPr>
          <p:spPr>
            <a:xfrm rot="12393600">
              <a:off x="3181320" y="2582640"/>
              <a:ext cx="1106280" cy="428400"/>
            </a:xfrm>
            <a:custGeom>
              <a:avLst/>
              <a:gdLst>
                <a:gd name="textAreaLeft" fmla="*/ 66960 w 1106280"/>
                <a:gd name="textAreaRight" fmla="*/ 999360 w 1106280"/>
                <a:gd name="textAreaTop" fmla="*/ 106920 h 428400"/>
                <a:gd name="textAreaBottom" fmla="*/ 321480 h 428400"/>
              </a:gdLst>
              <a:ahLst/>
              <a:rect l="textAreaLeft" t="textAreaTop" r="textAreaRight" b="textAreaBottom"/>
              <a:pathLst>
                <a:path w="1106711" h="428625">
                  <a:moveTo>
                    <a:pt x="0" y="107156"/>
                  </a:moveTo>
                  <a:lnTo>
                    <a:pt x="13395" y="107156"/>
                  </a:lnTo>
                  <a:lnTo>
                    <a:pt x="13395" y="321469"/>
                  </a:lnTo>
                  <a:lnTo>
                    <a:pt x="0" y="321469"/>
                  </a:lnTo>
                  <a:close/>
                  <a:moveTo>
                    <a:pt x="26789" y="107156"/>
                  </a:moveTo>
                  <a:lnTo>
                    <a:pt x="53578" y="107156"/>
                  </a:lnTo>
                  <a:lnTo>
                    <a:pt x="53578" y="321469"/>
                  </a:lnTo>
                  <a:lnTo>
                    <a:pt x="26789" y="321469"/>
                  </a:lnTo>
                  <a:close/>
                  <a:moveTo>
                    <a:pt x="66973" y="107156"/>
                  </a:moveTo>
                  <a:lnTo>
                    <a:pt x="892399" y="107156"/>
                  </a:lnTo>
                  <a:lnTo>
                    <a:pt x="892399" y="0"/>
                  </a:lnTo>
                  <a:lnTo>
                    <a:pt x="1106711" y="214313"/>
                  </a:lnTo>
                  <a:lnTo>
                    <a:pt x="892399" y="428625"/>
                  </a:lnTo>
                  <a:lnTo>
                    <a:pt x="892399" y="321469"/>
                  </a:lnTo>
                  <a:lnTo>
                    <a:pt x="66973" y="321469"/>
                  </a:lnTo>
                  <a:close/>
                </a:path>
              </a:pathLst>
            </a:custGeom>
            <a:noFill/>
            <a:ln w="25560">
              <a:solidFill>
                <a:srgbClr val="c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à coins arrondis 13"/>
            <p:cNvSpPr/>
            <p:nvPr/>
          </p:nvSpPr>
          <p:spPr>
            <a:xfrm>
              <a:off x="500040" y="1285920"/>
              <a:ext cx="2714760" cy="1214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éparte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Rectangle à coins arrondis 15"/>
          <p:cNvSpPr/>
          <p:nvPr/>
        </p:nvSpPr>
        <p:spPr>
          <a:xfrm>
            <a:off x="6500880" y="3286080"/>
            <a:ext cx="1571400" cy="357120"/>
          </a:xfrm>
          <a:prstGeom prst="wedgeRoundRectCallout">
            <a:avLst>
              <a:gd name="adj1" fmla="val -126541"/>
              <a:gd name="adj2" fmla="val 38500"/>
              <a:gd name="adj3" fmla="val 16667"/>
            </a:avLst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ts-c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à coins arrondis 16"/>
          <p:cNvSpPr/>
          <p:nvPr/>
        </p:nvSpPr>
        <p:spPr>
          <a:xfrm>
            <a:off x="826920" y="4357800"/>
            <a:ext cx="2030760" cy="642960"/>
          </a:xfrm>
          <a:prstGeom prst="roundRect">
            <a:avLst>
              <a:gd name="adj" fmla="val 16667"/>
            </a:avLst>
          </a:prstGeom>
          <a:solidFill>
            <a:srgbClr val="fad5a4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Unité(s) participant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lèche droite rayée 17"/>
          <p:cNvSpPr/>
          <p:nvPr/>
        </p:nvSpPr>
        <p:spPr>
          <a:xfrm rot="20359200">
            <a:off x="2963880" y="4070160"/>
            <a:ext cx="1285920" cy="428400"/>
          </a:xfrm>
          <a:custGeom>
            <a:avLst/>
            <a:gdLst>
              <a:gd name="textAreaLeft" fmla="*/ 66960 w 1285920"/>
              <a:gd name="textAreaRight" fmla="*/ 1214640 w 1285920"/>
              <a:gd name="textAreaTop" fmla="*/ 135720 h 428400"/>
              <a:gd name="textAreaBottom" fmla="*/ 292680 h 428400"/>
            </a:gdLst>
            <a:ahLst/>
            <a:rect l="textAreaLeft" t="textAreaTop" r="textAreaRight" b="textAreaBottom"/>
            <a:pathLst>
              <a:path w="1285875" h="428625">
                <a:moveTo>
                  <a:pt x="0" y="135733"/>
                </a:moveTo>
                <a:lnTo>
                  <a:pt x="13395" y="135733"/>
                </a:lnTo>
                <a:lnTo>
                  <a:pt x="13395" y="292892"/>
                </a:lnTo>
                <a:lnTo>
                  <a:pt x="0" y="292892"/>
                </a:lnTo>
                <a:close/>
                <a:moveTo>
                  <a:pt x="26789" y="135733"/>
                </a:moveTo>
                <a:lnTo>
                  <a:pt x="53578" y="135733"/>
                </a:lnTo>
                <a:lnTo>
                  <a:pt x="53578" y="292892"/>
                </a:lnTo>
                <a:lnTo>
                  <a:pt x="26789" y="292892"/>
                </a:lnTo>
                <a:close/>
                <a:moveTo>
                  <a:pt x="66973" y="135733"/>
                </a:moveTo>
                <a:lnTo>
                  <a:pt x="1090611" y="135733"/>
                </a:lnTo>
                <a:lnTo>
                  <a:pt x="1090611" y="0"/>
                </a:lnTo>
                <a:lnTo>
                  <a:pt x="1285875" y="214313"/>
                </a:lnTo>
                <a:lnTo>
                  <a:pt x="1090611" y="428625"/>
                </a:lnTo>
                <a:lnTo>
                  <a:pt x="1090611" y="292892"/>
                </a:lnTo>
                <a:lnTo>
                  <a:pt x="66973" y="292892"/>
                </a:lnTo>
                <a:close/>
              </a:path>
            </a:pathLst>
          </a:custGeom>
          <a:solidFill>
            <a:srgbClr val="fad5a4">
              <a:alpha val="51000"/>
            </a:srgbClr>
          </a:solidFill>
          <a:ln w="25560">
            <a:solidFill>
              <a:srgbClr val="fad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à coins arrondis 18"/>
          <p:cNvSpPr/>
          <p:nvPr/>
        </p:nvSpPr>
        <p:spPr>
          <a:xfrm>
            <a:off x="3786120" y="5429160"/>
            <a:ext cx="1928880" cy="428760"/>
          </a:xfrm>
          <a:prstGeom prst="roundRect">
            <a:avLst>
              <a:gd name="adj" fmla="val 16667"/>
            </a:avLst>
          </a:prstGeom>
          <a:solidFill>
            <a:srgbClr val="7c9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imateu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e 22"/>
          <p:cNvGrpSpPr/>
          <p:nvPr/>
        </p:nvGrpSpPr>
        <p:grpSpPr>
          <a:xfrm>
            <a:off x="3929040" y="1285920"/>
            <a:ext cx="5000760" cy="2037600"/>
            <a:chOff x="3929040" y="1285920"/>
            <a:chExt cx="5000760" cy="2037600"/>
          </a:xfrm>
        </p:grpSpPr>
        <p:sp>
          <p:nvSpPr>
            <p:cNvPr id="315" name="Rectangle à coins arrondis 19"/>
            <p:cNvSpPr/>
            <p:nvPr/>
          </p:nvSpPr>
          <p:spPr>
            <a:xfrm>
              <a:off x="3929040" y="1571400"/>
              <a:ext cx="5000760" cy="9288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Champs fonctionnels expérimentaux</a:t>
              </a: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(CFE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à coins arrondis 20"/>
            <p:cNvSpPr/>
            <p:nvPr/>
          </p:nvSpPr>
          <p:spPr>
            <a:xfrm>
              <a:off x="3929040" y="1285920"/>
              <a:ext cx="4786560" cy="1214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N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lèche droite rayée 21"/>
            <p:cNvSpPr/>
            <p:nvPr/>
          </p:nvSpPr>
          <p:spPr>
            <a:xfrm rot="19354800">
              <a:off x="5037120" y="2662200"/>
              <a:ext cx="911160" cy="428400"/>
            </a:xfrm>
            <a:custGeom>
              <a:avLst/>
              <a:gdLst>
                <a:gd name="textAreaLeft" fmla="*/ 66960 w 911160"/>
                <a:gd name="textAreaRight" fmla="*/ 804240 w 911160"/>
                <a:gd name="textAreaTop" fmla="*/ 106920 h 428400"/>
                <a:gd name="textAreaBottom" fmla="*/ 321480 h 428400"/>
              </a:gdLst>
              <a:ahLst/>
              <a:rect l="textAreaLeft" t="textAreaTop" r="textAreaRight" b="textAreaBottom"/>
              <a:pathLst>
                <a:path w="911225" h="428625">
                  <a:moveTo>
                    <a:pt x="0" y="107156"/>
                  </a:moveTo>
                  <a:lnTo>
                    <a:pt x="13395" y="107156"/>
                  </a:lnTo>
                  <a:lnTo>
                    <a:pt x="13395" y="321469"/>
                  </a:lnTo>
                  <a:lnTo>
                    <a:pt x="0" y="321469"/>
                  </a:lnTo>
                  <a:close/>
                  <a:moveTo>
                    <a:pt x="26789" y="107156"/>
                  </a:moveTo>
                  <a:lnTo>
                    <a:pt x="53578" y="107156"/>
                  </a:lnTo>
                  <a:lnTo>
                    <a:pt x="53578" y="321469"/>
                  </a:lnTo>
                  <a:lnTo>
                    <a:pt x="26789" y="321469"/>
                  </a:lnTo>
                  <a:close/>
                  <a:moveTo>
                    <a:pt x="66973" y="107156"/>
                  </a:moveTo>
                  <a:lnTo>
                    <a:pt x="696913" y="107156"/>
                  </a:lnTo>
                  <a:lnTo>
                    <a:pt x="696913" y="0"/>
                  </a:lnTo>
                  <a:lnTo>
                    <a:pt x="911225" y="214313"/>
                  </a:lnTo>
                  <a:lnTo>
                    <a:pt x="696913" y="428625"/>
                  </a:lnTo>
                  <a:lnTo>
                    <a:pt x="696913" y="321469"/>
                  </a:lnTo>
                  <a:lnTo>
                    <a:pt x="66973" y="321469"/>
                  </a:lnTo>
                  <a:close/>
                </a:path>
              </a:pathLst>
            </a:custGeom>
            <a:noFill/>
            <a:ln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90"/>
          <p:cNvSpPr/>
          <p:nvPr/>
        </p:nvSpPr>
        <p:spPr>
          <a:xfrm>
            <a:off x="5796000" y="4653000"/>
            <a:ext cx="314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claration de la participation de l’ensemble des agent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(unité et hors unit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Caractéristiques d’une ACA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20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443640" y="6381720"/>
            <a:ext cx="576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C63A-B340-4916-B71F-AFBFB1DAA9A9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llipse 5"/>
          <p:cNvSpPr/>
          <p:nvPr/>
        </p:nvSpPr>
        <p:spPr>
          <a:xfrm>
            <a:off x="4214880" y="3143160"/>
            <a:ext cx="1000080" cy="928800"/>
          </a:xfrm>
          <a:prstGeom prst="ellipse">
            <a:avLst/>
          </a:prstGeom>
          <a:noFill/>
          <a:ln w="25560">
            <a:solidFill>
              <a:srgbClr val="f4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à coins arrondis 6"/>
          <p:cNvSpPr/>
          <p:nvPr/>
        </p:nvSpPr>
        <p:spPr>
          <a:xfrm>
            <a:off x="1357200" y="335772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ad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Unité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èche droite rayée 7"/>
          <p:cNvSpPr/>
          <p:nvPr/>
        </p:nvSpPr>
        <p:spPr>
          <a:xfrm>
            <a:off x="2857680" y="3429000"/>
            <a:ext cx="1285560" cy="428760"/>
          </a:xfrm>
          <a:custGeom>
            <a:avLst/>
            <a:gdLst>
              <a:gd name="textAreaLeft" fmla="*/ 66960 w 1285560"/>
              <a:gd name="textAreaRight" fmla="*/ 1214280 w 1285560"/>
              <a:gd name="textAreaTop" fmla="*/ 135720 h 428760"/>
              <a:gd name="textAreaBottom" fmla="*/ 293040 h 428760"/>
            </a:gdLst>
            <a:ahLst/>
            <a:rect l="textAreaLeft" t="textAreaTop" r="textAreaRight" b="textAreaBottom"/>
            <a:pathLst>
              <a:path w="1285875" h="428625">
                <a:moveTo>
                  <a:pt x="0" y="135733"/>
                </a:moveTo>
                <a:lnTo>
                  <a:pt x="13395" y="135733"/>
                </a:lnTo>
                <a:lnTo>
                  <a:pt x="13395" y="292892"/>
                </a:lnTo>
                <a:lnTo>
                  <a:pt x="0" y="292892"/>
                </a:lnTo>
                <a:close/>
                <a:moveTo>
                  <a:pt x="26789" y="135733"/>
                </a:moveTo>
                <a:lnTo>
                  <a:pt x="53578" y="135733"/>
                </a:lnTo>
                <a:lnTo>
                  <a:pt x="53578" y="292892"/>
                </a:lnTo>
                <a:lnTo>
                  <a:pt x="26789" y="292892"/>
                </a:lnTo>
                <a:close/>
                <a:moveTo>
                  <a:pt x="66973" y="135733"/>
                </a:moveTo>
                <a:lnTo>
                  <a:pt x="1090611" y="135733"/>
                </a:lnTo>
                <a:lnTo>
                  <a:pt x="1090611" y="0"/>
                </a:lnTo>
                <a:lnTo>
                  <a:pt x="1285875" y="214313"/>
                </a:lnTo>
                <a:lnTo>
                  <a:pt x="1090611" y="428625"/>
                </a:lnTo>
                <a:lnTo>
                  <a:pt x="1090611" y="292892"/>
                </a:lnTo>
                <a:lnTo>
                  <a:pt x="66973" y="292892"/>
                </a:lnTo>
                <a:close/>
              </a:path>
            </a:pathLst>
          </a:custGeom>
          <a:solidFill>
            <a:srgbClr val="fad5a4"/>
          </a:solidFill>
          <a:ln w="25560">
            <a:solidFill>
              <a:srgbClr val="f4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à coins arrondis 10"/>
          <p:cNvSpPr/>
          <p:nvPr/>
        </p:nvSpPr>
        <p:spPr>
          <a:xfrm>
            <a:off x="3786120" y="4857840"/>
            <a:ext cx="1928880" cy="428400"/>
          </a:xfrm>
          <a:prstGeom prst="roundRect">
            <a:avLst>
              <a:gd name="adj" fmla="val 16667"/>
            </a:avLst>
          </a:prstGeom>
          <a:solidFill>
            <a:srgbClr val="7c9cca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lèche droite rayée 12"/>
          <p:cNvSpPr/>
          <p:nvPr/>
        </p:nvSpPr>
        <p:spPr>
          <a:xfrm rot="16200000">
            <a:off x="4429080" y="4285800"/>
            <a:ext cx="571320" cy="428400"/>
          </a:xfrm>
          <a:custGeom>
            <a:avLst/>
            <a:gdLst>
              <a:gd name="textAreaLeft" fmla="*/ 66960 w 571320"/>
              <a:gd name="textAreaRight" fmla="*/ 464400 w 57132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close/>
              </a:path>
            </a:pathLst>
          </a:custGeom>
          <a:solidFill>
            <a:srgbClr val="7c9cca"/>
          </a:solidFill>
          <a:ln w="25560">
            <a:solidFill>
              <a:srgbClr val="436b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à coins arrondis 16"/>
          <p:cNvSpPr/>
          <p:nvPr/>
        </p:nvSpPr>
        <p:spPr>
          <a:xfrm>
            <a:off x="900000" y="4357800"/>
            <a:ext cx="1957680" cy="642960"/>
          </a:xfrm>
          <a:prstGeom prst="roundRect">
            <a:avLst>
              <a:gd name="adj" fmla="val 16667"/>
            </a:avLst>
          </a:prstGeom>
          <a:solidFill>
            <a:srgbClr val="fad5a4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Unité(s) participant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lèche droite rayée 17"/>
          <p:cNvSpPr/>
          <p:nvPr/>
        </p:nvSpPr>
        <p:spPr>
          <a:xfrm rot="20359200">
            <a:off x="2963880" y="4070160"/>
            <a:ext cx="1285920" cy="428400"/>
          </a:xfrm>
          <a:custGeom>
            <a:avLst/>
            <a:gdLst>
              <a:gd name="textAreaLeft" fmla="*/ 66960 w 1285920"/>
              <a:gd name="textAreaRight" fmla="*/ 1214640 w 1285920"/>
              <a:gd name="textAreaTop" fmla="*/ 135720 h 428400"/>
              <a:gd name="textAreaBottom" fmla="*/ 292680 h 428400"/>
            </a:gdLst>
            <a:ahLst/>
            <a:rect l="textAreaLeft" t="textAreaTop" r="textAreaRight" b="textAreaBottom"/>
            <a:pathLst>
              <a:path w="1285875" h="428625">
                <a:moveTo>
                  <a:pt x="0" y="135733"/>
                </a:moveTo>
                <a:lnTo>
                  <a:pt x="13395" y="135733"/>
                </a:lnTo>
                <a:lnTo>
                  <a:pt x="13395" y="292892"/>
                </a:lnTo>
                <a:lnTo>
                  <a:pt x="0" y="292892"/>
                </a:lnTo>
                <a:close/>
                <a:moveTo>
                  <a:pt x="26789" y="135733"/>
                </a:moveTo>
                <a:lnTo>
                  <a:pt x="53578" y="135733"/>
                </a:lnTo>
                <a:lnTo>
                  <a:pt x="53578" y="292892"/>
                </a:lnTo>
                <a:lnTo>
                  <a:pt x="26789" y="292892"/>
                </a:lnTo>
                <a:close/>
                <a:moveTo>
                  <a:pt x="66973" y="135733"/>
                </a:moveTo>
                <a:lnTo>
                  <a:pt x="1090611" y="135733"/>
                </a:lnTo>
                <a:lnTo>
                  <a:pt x="1090611" y="0"/>
                </a:lnTo>
                <a:lnTo>
                  <a:pt x="1285875" y="214313"/>
                </a:lnTo>
                <a:lnTo>
                  <a:pt x="1090611" y="428625"/>
                </a:lnTo>
                <a:lnTo>
                  <a:pt x="1090611" y="292892"/>
                </a:lnTo>
                <a:lnTo>
                  <a:pt x="66973" y="292892"/>
                </a:lnTo>
                <a:close/>
              </a:path>
            </a:pathLst>
          </a:custGeom>
          <a:solidFill>
            <a:srgbClr val="fad5a4">
              <a:alpha val="51000"/>
            </a:srgbClr>
          </a:solidFill>
          <a:ln w="25560">
            <a:solidFill>
              <a:srgbClr val="fad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à coins arrondis 18"/>
          <p:cNvSpPr/>
          <p:nvPr/>
        </p:nvSpPr>
        <p:spPr>
          <a:xfrm>
            <a:off x="3786120" y="5429160"/>
            <a:ext cx="1928880" cy="428760"/>
          </a:xfrm>
          <a:prstGeom prst="roundRect">
            <a:avLst>
              <a:gd name="adj" fmla="val 16667"/>
            </a:avLst>
          </a:prstGeom>
          <a:solidFill>
            <a:srgbClr val="7c9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imateu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e 15"/>
          <p:cNvGrpSpPr/>
          <p:nvPr/>
        </p:nvGrpSpPr>
        <p:grpSpPr>
          <a:xfrm>
            <a:off x="3929040" y="1285920"/>
            <a:ext cx="5000760" cy="2037600"/>
            <a:chOff x="3929040" y="1285920"/>
            <a:chExt cx="5000760" cy="2037600"/>
          </a:xfrm>
        </p:grpSpPr>
        <p:sp>
          <p:nvSpPr>
            <p:cNvPr id="331" name="Rectangle à coins arrondis 19"/>
            <p:cNvSpPr/>
            <p:nvPr/>
          </p:nvSpPr>
          <p:spPr>
            <a:xfrm>
              <a:off x="3929040" y="1571400"/>
              <a:ext cx="5000760" cy="9288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Champs fonctionnels d’appui (CF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436ba7"/>
                  </a:solidFill>
                  <a:latin typeface="Arial"/>
                </a:rPr>
                <a:t>Ou Sous-champ fonctionnel d’appu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à coins arrondis 20"/>
            <p:cNvSpPr/>
            <p:nvPr/>
          </p:nvSpPr>
          <p:spPr>
            <a:xfrm>
              <a:off x="3929040" y="1285920"/>
              <a:ext cx="4786560" cy="1214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R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lèche droite rayée 21"/>
            <p:cNvSpPr/>
            <p:nvPr/>
          </p:nvSpPr>
          <p:spPr>
            <a:xfrm rot="19354800">
              <a:off x="5037120" y="2662200"/>
              <a:ext cx="911160" cy="428400"/>
            </a:xfrm>
            <a:custGeom>
              <a:avLst/>
              <a:gdLst>
                <a:gd name="textAreaLeft" fmla="*/ 66960 w 911160"/>
                <a:gd name="textAreaRight" fmla="*/ 804240 w 911160"/>
                <a:gd name="textAreaTop" fmla="*/ 106920 h 428400"/>
                <a:gd name="textAreaBottom" fmla="*/ 321480 h 428400"/>
              </a:gdLst>
              <a:ahLst/>
              <a:rect l="textAreaLeft" t="textAreaTop" r="textAreaRight" b="textAreaBottom"/>
              <a:pathLst>
                <a:path w="911225" h="428625">
                  <a:moveTo>
                    <a:pt x="0" y="107156"/>
                  </a:moveTo>
                  <a:lnTo>
                    <a:pt x="13395" y="107156"/>
                  </a:lnTo>
                  <a:lnTo>
                    <a:pt x="13395" y="321469"/>
                  </a:lnTo>
                  <a:lnTo>
                    <a:pt x="0" y="321469"/>
                  </a:lnTo>
                  <a:close/>
                  <a:moveTo>
                    <a:pt x="26789" y="107156"/>
                  </a:moveTo>
                  <a:lnTo>
                    <a:pt x="53578" y="107156"/>
                  </a:lnTo>
                  <a:lnTo>
                    <a:pt x="53578" y="321469"/>
                  </a:lnTo>
                  <a:lnTo>
                    <a:pt x="26789" y="321469"/>
                  </a:lnTo>
                  <a:close/>
                  <a:moveTo>
                    <a:pt x="66973" y="107156"/>
                  </a:moveTo>
                  <a:lnTo>
                    <a:pt x="696913" y="107156"/>
                  </a:lnTo>
                  <a:lnTo>
                    <a:pt x="696913" y="0"/>
                  </a:lnTo>
                  <a:lnTo>
                    <a:pt x="911225" y="214313"/>
                  </a:lnTo>
                  <a:lnTo>
                    <a:pt x="696913" y="428625"/>
                  </a:lnTo>
                  <a:lnTo>
                    <a:pt x="696913" y="321469"/>
                  </a:lnTo>
                  <a:lnTo>
                    <a:pt x="66973" y="321469"/>
                  </a:lnTo>
                  <a:close/>
                </a:path>
              </a:pathLst>
            </a:custGeom>
            <a:noFill/>
            <a:ln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85520" y="142920"/>
            <a:ext cx="7715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49100"/>
                </a:solidFill>
                <a:latin typeface="Calibri"/>
              </a:rPr>
              <a:t>Participation d'un agent à une activité collective</a:t>
            </a:r>
            <a:endParaRPr b="0" lang="en-US" sz="40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28760" y="1285920"/>
            <a:ext cx="850104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9920" indent="-439920" algn="just">
              <a:spcBef>
                <a:spcPts val="60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Le taux de participation à une ou plusieurs activités pour un agent est renseigné par le </a:t>
            </a:r>
            <a:r>
              <a:rPr b="1" lang="fr-FR" sz="2400" spc="-1" strike="noStrike">
                <a:solidFill>
                  <a:srgbClr val="436ba7"/>
                </a:solidFill>
                <a:latin typeface="Calibri"/>
              </a:rPr>
              <a:t>DU de l’unité leader </a:t>
            </a: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et/ou par l’animateur (ou leurs délégataires) 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439920" indent="-439920" algn="just">
              <a:spcBef>
                <a:spcPts val="24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36ba7"/>
              </a:solidFill>
              <a:latin typeface="Calibri"/>
            </a:endParaRPr>
          </a:p>
          <a:p>
            <a:pPr marL="439920" indent="-439920" algn="just">
              <a:spcBef>
                <a:spcPts val="60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Un agent peut participer à plusieurs activités de différents types simultanément, y compris hors de son unité d'affectation (unité participante ou non)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439920" indent="-439920" algn="just">
              <a:spcBef>
                <a:spcPts val="300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36ba7"/>
              </a:solidFill>
              <a:latin typeface="Calibri"/>
            </a:endParaRPr>
          </a:p>
          <a:p>
            <a:pPr marL="439920" indent="-439920" algn="just">
              <a:spcBef>
                <a:spcPts val="60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Le taux de participation à une AC ne peut être inférieur à 20%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439920" indent="-439920" algn="just">
              <a:spcBef>
                <a:spcPts val="24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36ba7"/>
              </a:solidFill>
              <a:latin typeface="Calibri"/>
            </a:endParaRPr>
          </a:p>
          <a:p>
            <a:pPr marL="439920" indent="-439920" algn="just">
              <a:spcBef>
                <a:spcPts val="60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La somme des participations d'un même agent sur :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1154880" indent="-441360">
              <a:spcBef>
                <a:spcPts val="4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6ba7"/>
                </a:solidFill>
                <a:latin typeface="Calibri"/>
              </a:rPr>
              <a:t>l’ensemble des ACR doit être si possible de 100%</a:t>
            </a:r>
            <a:endParaRPr b="0" lang="en-US" sz="2000" spc="-1" strike="noStrike">
              <a:solidFill>
                <a:srgbClr val="436ba7"/>
              </a:solidFill>
              <a:latin typeface="Calibri"/>
            </a:endParaRPr>
          </a:p>
          <a:p>
            <a:pPr lvl="1" marL="1154880" indent="-441360">
              <a:spcBef>
                <a:spcPts val="4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6ba7"/>
                </a:solidFill>
                <a:latin typeface="Calibri"/>
              </a:rPr>
              <a:t>l’ensemble des ACE + ACS + ACA doit être au maximum de 100%</a:t>
            </a:r>
            <a:br>
              <a:rPr sz="2000"/>
            </a:br>
            <a:r>
              <a:rPr b="0" lang="fr-FR" sz="2000" spc="-1" strike="noStrike">
                <a:solidFill>
                  <a:srgbClr val="436ba7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36ba7"/>
              </a:solidFill>
              <a:latin typeface="Calibri"/>
            </a:endParaRPr>
          </a:p>
          <a:p>
            <a:pPr marL="439920" indent="-43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36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7BA0-EC60-4618-A37F-F9E0E5813E23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Participation ACR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24000" y="1483920"/>
            <a:ext cx="842472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spcBef>
                <a:spcPts val="700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Sur ACR, </a:t>
            </a:r>
            <a:r>
              <a:rPr b="0" lang="fr-FR" sz="2800" spc="-1" strike="noStrike">
                <a:solidFill>
                  <a:srgbClr val="669900"/>
                </a:solidFill>
                <a:latin typeface="Calibri"/>
              </a:rPr>
              <a:t>seule la quotité de participation des chercheurs/ingénieurs </a:t>
            </a: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est enregistrée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436ba7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un minimum de 20% de participation est requis : ne pas oublier de vérifier les participations déjà saisies avant validation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 algn="just">
              <a:spcBef>
                <a:spcPts val="700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Les agents des autres catégories ont un </a:t>
            </a:r>
            <a:r>
              <a:rPr b="0" lang="fr-FR" sz="2800" spc="-1" strike="noStrike">
                <a:solidFill>
                  <a:srgbClr val="669900"/>
                </a:solidFill>
                <a:latin typeface="Calibri"/>
              </a:rPr>
              <a:t>participation individuelle équivalente au prorata de participation des chercheurs/ingénieurs</a:t>
            </a: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 de leur unité sur les ACR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550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39" name="Espace réservé du numéro de diapositive 4"/>
          <p:cNvSpPr/>
          <p:nvPr/>
        </p:nvSpPr>
        <p:spPr>
          <a:xfrm>
            <a:off x="6443640" y="6453360"/>
            <a:ext cx="576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0CE2-B56D-4F0A-9E3B-F4BB9CEFF5BC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Des données intégrées au SI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42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9E5A-CEB5-4BED-A8FF-48CDE908F9EE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263520" y="4060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6" descr="Z:\Rapports clients\INRA-SI-Scenarii\Rich media\illustrationsProdInraPNG\cube_2.png"/>
          <p:cNvPicPr/>
          <p:nvPr/>
        </p:nvPicPr>
        <p:blipFill>
          <a:blip r:embed="rId1"/>
          <a:stretch/>
        </p:blipFill>
        <p:spPr>
          <a:xfrm>
            <a:off x="2532240" y="1523880"/>
            <a:ext cx="4668840" cy="42404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487440" y="482760"/>
            <a:ext cx="8850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Image 18" descr="cube.png"/>
          <p:cNvPicPr/>
          <p:nvPr/>
        </p:nvPicPr>
        <p:blipFill>
          <a:blip r:embed="rId2"/>
          <a:stretch/>
        </p:blipFill>
        <p:spPr>
          <a:xfrm>
            <a:off x="1285920" y="1428840"/>
            <a:ext cx="6926040" cy="495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Le référentiel des Activités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55640" y="1214280"/>
            <a:ext cx="81741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Recense l’ensemble des activités </a:t>
            </a:r>
            <a:r>
              <a:rPr b="1" lang="fr-FR" sz="3200" spc="-1" strike="noStrike">
                <a:solidFill>
                  <a:srgbClr val="436ba7"/>
                </a:solidFill>
                <a:latin typeface="Calibri"/>
              </a:rPr>
              <a:t>collectives</a:t>
            </a: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 de l’institut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1" marL="895320" indent="-447480"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Activités collectives de recherche (ACR)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1" marL="895320" indent="-447480"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Activités collectives de support scientifique (ACS)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1" marL="895320" indent="-447480"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Activités collectives expérimentales (ACE)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1" marL="895320" indent="-447480"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Activités collectives d’appui à la recherche (ACA)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Notion d’équipe, de projet </a:t>
            </a:r>
            <a:r>
              <a:rPr b="0" lang="fr-FR" sz="3200" spc="-1" strike="noStrike">
                <a:solidFill>
                  <a:srgbClr val="436ba7"/>
                </a:solidFill>
                <a:latin typeface="Wingdings"/>
                <a:ea typeface="Wingdings"/>
              </a:rPr>
              <a:t></a:t>
            </a: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 collectif </a:t>
            </a:r>
            <a:r>
              <a:rPr b="1" lang="fr-FR" sz="3200" spc="-1" strike="noStrike">
                <a:solidFill>
                  <a:srgbClr val="436ba7"/>
                </a:solidFill>
                <a:latin typeface="Calibri"/>
              </a:rPr>
              <a:t>animé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1" marL="895320" indent="-447480">
              <a:buClr>
                <a:srgbClr val="f491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50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EF57-5CEA-485D-AA72-242F9CF1DBE9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oneTexte 5"/>
          <p:cNvSpPr/>
          <p:nvPr/>
        </p:nvSpPr>
        <p:spPr>
          <a:xfrm>
            <a:off x="1357200" y="507204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  <a:ea typeface="Arial"/>
              </a:rPr>
              <a:t>Chaque type d’AC possède</a:t>
            </a:r>
            <a:br>
              <a:rPr sz="2400"/>
            </a:br>
            <a:r>
              <a:rPr b="1" lang="fr-FR" sz="2400" spc="-1" strike="noStrike">
                <a:solidFill>
                  <a:srgbClr val="c00000"/>
                </a:solidFill>
                <a:latin typeface="Arial"/>
                <a:ea typeface="Arial"/>
              </a:rPr>
              <a:t>des éléments de description  spéc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lipse 6"/>
          <p:cNvSpPr/>
          <p:nvPr/>
        </p:nvSpPr>
        <p:spPr>
          <a:xfrm>
            <a:off x="1000080" y="5000760"/>
            <a:ext cx="7143840" cy="1285920"/>
          </a:xfrm>
          <a:prstGeom prst="ellipse">
            <a:avLst/>
          </a:prstGeom>
          <a:solidFill>
            <a:srgbClr val="fad5a4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Deux visions parallèles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55280" y="1628640"/>
            <a:ext cx="771516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La contribution à des axes de recherche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56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F744-9571-4279-A06C-313C93F56A03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contenu 2"/>
          <p:cNvSpPr/>
          <p:nvPr/>
        </p:nvSpPr>
        <p:spPr>
          <a:xfrm>
            <a:off x="857160" y="2928960"/>
            <a:ext cx="789156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66760" indent="-44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Le soutien à la recherch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446040">
              <a:lnSpc>
                <a:spcPct val="100000"/>
              </a:lnSpc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  <a:ea typeface="Arial"/>
              </a:rPr>
              <a:t>Support scient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446040">
              <a:lnSpc>
                <a:spcPct val="100000"/>
              </a:lnSpc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  <a:ea typeface="Arial"/>
              </a:rPr>
              <a:t>Expé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446040">
              <a:lnSpc>
                <a:spcPct val="100000"/>
              </a:lnSpc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  <a:ea typeface="Arial"/>
              </a:rPr>
              <a:t>App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lipse 6"/>
          <p:cNvSpPr/>
          <p:nvPr/>
        </p:nvSpPr>
        <p:spPr>
          <a:xfrm>
            <a:off x="2357280" y="2357280"/>
            <a:ext cx="3357720" cy="9288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mps thématiques de reche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llipse 7"/>
          <p:cNvSpPr/>
          <p:nvPr/>
        </p:nvSpPr>
        <p:spPr>
          <a:xfrm>
            <a:off x="5357880" y="4214880"/>
            <a:ext cx="3357360" cy="9288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mps fonctionnels et doma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2920" y="259920"/>
            <a:ext cx="8858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3971b"/>
                </a:solidFill>
                <a:latin typeface="Calibri"/>
              </a:rPr>
              <a:t>Rappel sur l’existant</a:t>
            </a:r>
            <a:endParaRPr b="0" lang="en-US" sz="40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14240" y="1357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Données alimentées à partir de CompACt (été 2008)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Consolidation par certains  départements (été 2009)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Consultation via les annuaires depuis novembre 2009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Mises à jour possibles depuis été 2010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63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AB49-0AA7-4986-97B0-8BCB8371B882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Procédure pour la collecte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65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D2DF-9FCE-4554-8505-CF871412C864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contenu 2"/>
          <p:cNvSpPr/>
          <p:nvPr/>
        </p:nvSpPr>
        <p:spPr>
          <a:xfrm>
            <a:off x="539640" y="1628640"/>
            <a:ext cx="821556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Pour les un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446040">
              <a:lnSpc>
                <a:spcPct val="100000"/>
              </a:lnSpc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  <a:ea typeface="Arial"/>
              </a:rPr>
              <a:t>Mettre à jour la liste des activités : création, modification ou suppression d’activ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446040">
              <a:lnSpc>
                <a:spcPct val="100000"/>
              </a:lnSpc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  <a:ea typeface="Arial"/>
              </a:rPr>
              <a:t>Vérifier  et compléter les éléments obligatoires en fonction du type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446040">
              <a:lnSpc>
                <a:spcPct val="100000"/>
              </a:lnSpc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  <a:ea typeface="Arial"/>
              </a:rPr>
              <a:t>Mettre à jour les participations des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446040">
              <a:lnSpc>
                <a:spcPct val="100000"/>
              </a:lnSpc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  <a:ea typeface="Arial"/>
              </a:rPr>
              <a:t>Eventuellement saisie d’un descrip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5480" y="259920"/>
            <a:ext cx="87152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L’application de gestion des activités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57160" y="142884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s://intranet-saisie-activites.inra.fr/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spcAft>
                <a:spcPts val="1199"/>
              </a:spcAft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Le rôle de DU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spcAft>
                <a:spcPts val="1199"/>
              </a:spcAft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Le rôle d’animateur 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spcAft>
                <a:spcPts val="1199"/>
              </a:spcAft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436ba7"/>
                </a:solidFill>
                <a:uFillTx/>
                <a:latin typeface="Calibri"/>
              </a:rPr>
              <a:t>La délégation de rôle</a:t>
            </a: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 : accessible au directeur de la structure concernée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70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B43E-4356-4198-AC8F-FABFF93E598E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Image 15" descr="page_accueil_du.PNG"/>
          <p:cNvPicPr/>
          <p:nvPr/>
        </p:nvPicPr>
        <p:blipFill>
          <a:blip r:embed="rId1"/>
          <a:stretch/>
        </p:blipFill>
        <p:spPr>
          <a:xfrm>
            <a:off x="0" y="1468440"/>
            <a:ext cx="9144000" cy="3921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15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Ecran d’accueil DU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74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AA43-F3DE-40C8-A4B7-D87598C4BE66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ulle ronde 13"/>
          <p:cNvSpPr/>
          <p:nvPr/>
        </p:nvSpPr>
        <p:spPr>
          <a:xfrm>
            <a:off x="6000840" y="1143000"/>
            <a:ext cx="2519280" cy="857160"/>
          </a:xfrm>
          <a:prstGeom prst="wedgeEllipseCallout">
            <a:avLst>
              <a:gd name="adj1" fmla="val -63532"/>
              <a:gd name="adj2" fmla="val 152560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ien vers l’écran d’édition-modification de l’A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à coins arrondis 13"/>
          <p:cNvSpPr/>
          <p:nvPr/>
        </p:nvSpPr>
        <p:spPr>
          <a:xfrm>
            <a:off x="2916360" y="4005360"/>
            <a:ext cx="221292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Bulle ronde 15"/>
          <p:cNvSpPr/>
          <p:nvPr/>
        </p:nvSpPr>
        <p:spPr>
          <a:xfrm>
            <a:off x="6300720" y="5235480"/>
            <a:ext cx="2000160" cy="785880"/>
          </a:xfrm>
          <a:prstGeom prst="wedgeEllipseCallout">
            <a:avLst>
              <a:gd name="adj1" fmla="val -53569"/>
              <a:gd name="adj2" fmla="val -95254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ien vers Ecran de mod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à coins arrondis 16"/>
          <p:cNvSpPr/>
          <p:nvPr/>
        </p:nvSpPr>
        <p:spPr>
          <a:xfrm>
            <a:off x="5219640" y="4011480"/>
            <a:ext cx="2232000" cy="857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Bulle ronde 18"/>
          <p:cNvSpPr/>
          <p:nvPr/>
        </p:nvSpPr>
        <p:spPr>
          <a:xfrm>
            <a:off x="7451640" y="333360"/>
            <a:ext cx="1513080" cy="720720"/>
          </a:xfrm>
          <a:prstGeom prst="wedgeEllipseCallout">
            <a:avLst>
              <a:gd name="adj1" fmla="val 48444"/>
              <a:gd name="adj2" fmla="val 107504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Lien vers le guide de sais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Bulle ronde 19"/>
          <p:cNvSpPr/>
          <p:nvPr/>
        </p:nvSpPr>
        <p:spPr>
          <a:xfrm>
            <a:off x="1000080" y="1643040"/>
            <a:ext cx="2017800" cy="647640"/>
          </a:xfrm>
          <a:prstGeom prst="wedgeEllipseCallout">
            <a:avLst>
              <a:gd name="adj1" fmla="val -59699"/>
              <a:gd name="adj2" fmla="val 150055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Lien vers la description de l’unit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Bulle ronde 12"/>
          <p:cNvSpPr/>
          <p:nvPr/>
        </p:nvSpPr>
        <p:spPr>
          <a:xfrm>
            <a:off x="1692360" y="5091120"/>
            <a:ext cx="1800000" cy="785880"/>
          </a:xfrm>
          <a:prstGeom prst="wedgeEllipseCallout">
            <a:avLst>
              <a:gd name="adj1" fmla="val 57162"/>
              <a:gd name="adj2" fmla="val -77500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ien vers Ecran de cré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Bulle ronde 20"/>
          <p:cNvSpPr/>
          <p:nvPr/>
        </p:nvSpPr>
        <p:spPr>
          <a:xfrm>
            <a:off x="250920" y="3789360"/>
            <a:ext cx="1584360" cy="1008000"/>
          </a:xfrm>
          <a:prstGeom prst="wedgeEllipseCallout">
            <a:avLst>
              <a:gd name="adj1" fmla="val -35263"/>
              <a:gd name="adj2" fmla="val -72476"/>
            </a:avLst>
          </a:prstGeom>
          <a:solidFill>
            <a:srgbClr val="fad5a4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Calibri"/>
              </a:rPr>
              <a:t>Lien vers la délégation de rô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à coins arrondis 13"/>
          <p:cNvSpPr/>
          <p:nvPr/>
        </p:nvSpPr>
        <p:spPr>
          <a:xfrm>
            <a:off x="8786880" y="1428840"/>
            <a:ext cx="357120" cy="214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à coins arrondis 14"/>
          <p:cNvSpPr/>
          <p:nvPr/>
        </p:nvSpPr>
        <p:spPr>
          <a:xfrm>
            <a:off x="4214880" y="2857680"/>
            <a:ext cx="2928960" cy="214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à coins arrondis 15"/>
          <p:cNvSpPr/>
          <p:nvPr/>
        </p:nvSpPr>
        <p:spPr>
          <a:xfrm>
            <a:off x="0" y="2786040"/>
            <a:ext cx="114300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à coins arrondis 21"/>
          <p:cNvSpPr/>
          <p:nvPr/>
        </p:nvSpPr>
        <p:spPr>
          <a:xfrm>
            <a:off x="0" y="3214800"/>
            <a:ext cx="114300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7:26:56Z</dcterms:created>
  <dc:creator>ADalmon</dc:creator>
  <dc:description/>
  <dc:language>en-US</dc:language>
  <cp:lastModifiedBy>ADalmon</cp:lastModifiedBy>
  <dcterms:modified xsi:type="dcterms:W3CDTF">2010-12-01T11:40:37Z</dcterms:modified>
  <cp:revision>83</cp:revision>
  <dc:subject/>
  <dc:title>Diapositive 1</dc:title>
</cp:coreProperties>
</file>