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66CBAA-B50F-46B8-8BF5-19178814382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4BD15F-F816-44D8-96CF-F3850641B1E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64723AA-579B-4625-ACF8-065A29CCF1F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C2EA8E-8FE1-4E3C-8035-3C95E77E957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40C2BD-95EE-4AA1-877D-2A54BE45E22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269605-69C0-4137-ABCC-C34146F85C6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D97635-C66F-4BC0-81E6-554E5B0937C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3CE87B2-E723-4B2F-A4BA-0F09A37B847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D50CB00-8597-47DB-9D69-60B3DFC544F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F23596-125C-40CB-A664-343D73F3E4E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7EA909-87E8-4493-80A9-797DC6C4F70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4B5618-5E3C-4EE7-B750-BEB93AA869D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29E4AE-72F4-4DFD-93C6-7B70D3634AE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306018-3B4D-4AF3-BB12-4258A1432B7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2D62C5-C986-4305-BB9D-DB1FCA01ACF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C56C94-A194-4F96-BC5C-A41A528D417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2AB0B8-05B9-41EF-BB29-C4CF7541304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0F14FB-C21A-422A-96A0-6040B25FAFB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FE613D-2AD1-4F6D-BF34-FE60F4EE96C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A02BEA-FFEE-4FAF-B288-27126C27AD3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BECAD0-7DF7-4051-AEA0-5212133E1C8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EEA3637-FA37-4257-82F5-2AEEE3CCAD4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707CC7-B654-4092-9783-70BAEAB9DE2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6D1060-2B5C-4164-9C81-1C262518CB8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0028CF-C044-4F16-A310-D63A49A6E0E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E72DC6-E061-4366-9115-AFAB94D167E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8BC607-A644-4045-853C-DC4EEE4306C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8455AA-99C9-47C9-8042-3FD08A5BBAE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5DDA6AC-F8AA-4D70-A3ED-8A873FAE04F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025DD5A-C88D-430C-B937-247D935676D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B3D8FF-8ACB-4D43-831C-09B00C7E2E6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9903E0-1B98-4824-9D1F-0F598817CCF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A45106-A3FB-466D-83A7-02998820089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8AF1B8-FDC5-41DD-8A9F-B420907B462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B43D583-6A5A-46E6-8617-13C3211D445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DB9DEE-0D98-4E87-8C05-6479A7814D7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083EF6-8272-4DEB-9C3F-F251C2E71A3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6819C1-37C6-4963-A74F-A5433B6EE0D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9269BB-DA20-401E-8985-779E360F973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1B8BD25-E455-4F57-879B-E9EF0203658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8D62-F376-4242-92C4-1F3A6C700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F2EB-B3B9-40F1-BDEE-BF5BBBA06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F27C-242F-4F80-A5A8-81692328D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5B2D-BB0B-4956-A118-0A804B4EC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6B86-A9F9-4AAF-AE3C-ECAE896BE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939-740D-46B3-89E6-E7B8223F1F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6AB-D614-4936-8B49-9A2C5E9519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D02-13E6-443B-8178-DB12AD2D7E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937-4233-4876-95BD-1291293A00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BD7-E67D-4D78-9754-CADFAD6F1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F7AF-A01A-4402-AD2C-0CD989F9F1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824-3AD0-4613-8936-100B21C121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088-45D9-4FAB-A7E4-89E9F0F54E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963-97D2-4B6B-B2B5-9E56D005ED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5A3-A906-48B7-807C-C4751D434D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8C5-BE41-4242-930E-E0CE203123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D7E-3F00-478B-B2F5-5B4A6B7516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6384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2400" y="162864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5528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6384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2400" y="399276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E0E-DF32-4C72-BDE5-0A5946A84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9556-68A5-4F46-B0C3-D1D1A9105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DFB0-D3D6-4F2B-BC35-8CD607755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280" y="259920"/>
            <a:ext cx="771516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6D4B-110E-43CE-B7AC-12101AAEE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C4D7-E286-49CE-860E-23242BAC5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8800" y="399276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7666-C41B-43E7-AA1F-8DFCC62A2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62864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399276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183C-451A-42CC-90A2-F2EA801A1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43280" y="652428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65AF-0C9F-4AAB-92B9-532E68B8B6BD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4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25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à coins arrondis 10" descr=""/>
          <p:cNvPicPr/>
          <p:nvPr/>
        </p:nvPicPr>
        <p:blipFill>
          <a:blip r:embed="rId3"/>
          <a:stretch/>
        </p:blipFill>
        <p:spPr>
          <a:xfrm>
            <a:off x="328680" y="1054080"/>
            <a:ext cx="855972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8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 12" descr="charteAP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LogoINRA-Gris"/>
          <p:cNvPicPr/>
          <p:nvPr/>
        </p:nvPicPr>
        <p:blipFill>
          <a:blip r:embed="rId2"/>
          <a:stretch/>
        </p:blipFill>
        <p:spPr>
          <a:xfrm>
            <a:off x="8101080" y="6453360"/>
            <a:ext cx="904680" cy="32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08000" y="630864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969696"/>
                </a:solidFill>
                <a:latin typeface="Eurostile Bold"/>
              </a:rPr>
              <a:t>Direction du Système d’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à coins arrondis 10" descr=""/>
          <p:cNvPicPr/>
          <p:nvPr/>
        </p:nvPicPr>
        <p:blipFill>
          <a:blip r:embed="rId3"/>
          <a:stretch/>
        </p:blipFill>
        <p:spPr>
          <a:xfrm>
            <a:off x="328680" y="1054080"/>
            <a:ext cx="855972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971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162864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spcBef>
                <a:spcPts val="799"/>
              </a:spcBef>
              <a:buClr>
                <a:srgbClr val="f49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3" marL="2247840" indent="-228600">
              <a:spcBef>
                <a:spcPts val="799"/>
              </a:spcBef>
              <a:buClr>
                <a:srgbClr val="f491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4" marL="2655720" indent="-228600">
              <a:spcBef>
                <a:spcPts val="799"/>
              </a:spcBef>
              <a:buClr>
                <a:srgbClr val="f491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5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6" marL="265572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6ba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2"/>
          </p:nvPr>
        </p:nvSpPr>
        <p:spPr>
          <a:xfrm>
            <a:off x="298728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3"/>
          </p:nvPr>
        </p:nvSpPr>
        <p:spPr>
          <a:xfrm>
            <a:off x="6443280" y="652428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E69-40BC-424F-97CE-7180AD387A3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intranet.annuaire.inra.fr/afficherActivite.action?code=19&amp;type=CT&amp;sr.motsCles=SPE&amp;sr.approchee=false&amp;ajax=true" TargetMode="External"/><Relationship Id="rId2" Type="http://schemas.openxmlformats.org/officeDocument/2006/relationships/hyperlink" Target="https://intranet.annuaire.inra.fr/afficherActivite.action?code=21&amp;type=CT&amp;sr.motsCles=SPE&amp;sr.approchee=false&amp;ajax=tru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3348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5400" spc="-1" strike="noStrike">
                <a:solidFill>
                  <a:srgbClr val="f3971b"/>
                </a:solidFill>
                <a:latin typeface="Calibri"/>
              </a:rPr>
              <a:t>Collecte « 2010 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3" descr=""/>
          <p:cNvPicPr/>
          <p:nvPr/>
        </p:nvPicPr>
        <p:blipFill>
          <a:blip r:embed="rId1"/>
          <a:stretch/>
        </p:blipFill>
        <p:spPr>
          <a:xfrm>
            <a:off x="633240" y="2494080"/>
            <a:ext cx="6731280" cy="87156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4"/>
          <p:cNvSpPr/>
          <p:nvPr/>
        </p:nvSpPr>
        <p:spPr>
          <a:xfrm>
            <a:off x="2500200" y="514368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436ba7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436ba7"/>
                </a:solidFill>
                <a:latin typeface="Arial"/>
              </a:rPr>
              <a:t>D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DSI-P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B808-ADAB-4A23-9FFD-FE8424B3C2D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Un référentiel Mots clés structuré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71760" y="1928520"/>
            <a:ext cx="7286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Objet d’étude : organisme ou système biolog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Question sociétale et finalité, context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Démarche, disciplin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36ba7"/>
                </a:solidFill>
                <a:latin typeface="Calibri"/>
              </a:rPr>
              <a:t>Échelle d’étu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36ba7"/>
                </a:solidFill>
                <a:latin typeface="Calibri"/>
              </a:rPr>
              <a:t>Localisation géograph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6ba7"/>
                </a:solidFill>
                <a:latin typeface="Calibri"/>
              </a:rPr>
              <a:t>Dispositif technique et méthode d’étu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6ba7"/>
                </a:solidFill>
                <a:latin typeface="Calibri"/>
              </a:rPr>
              <a:t>Composé chimique, Facteur du milieu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491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36ba7"/>
                </a:solidFill>
                <a:latin typeface="Calibri"/>
              </a:rPr>
              <a:t>Phénomène, processus et fonc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36ba7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85880" y="235728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contenu 2"/>
          <p:cNvSpPr/>
          <p:nvPr/>
        </p:nvSpPr>
        <p:spPr>
          <a:xfrm>
            <a:off x="785880" y="1357200"/>
            <a:ext cx="80341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8 entrées thé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contenu 2"/>
          <p:cNvSpPr/>
          <p:nvPr/>
        </p:nvSpPr>
        <p:spPr>
          <a:xfrm>
            <a:off x="928800" y="5286240"/>
            <a:ext cx="80341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iens entre mots-clés 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(hiérarchie, associations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scription d’une AC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0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486-B11E-4E27-B33E-524E9FB73FC1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llipse 5"/>
          <p:cNvSpPr/>
          <p:nvPr/>
        </p:nvSpPr>
        <p:spPr>
          <a:xfrm>
            <a:off x="4214880" y="314316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à coins arrondis 6"/>
          <p:cNvSpPr/>
          <p:nvPr/>
        </p:nvSpPr>
        <p:spPr>
          <a:xfrm>
            <a:off x="1357200" y="3357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lèche droite rayée 7"/>
          <p:cNvSpPr/>
          <p:nvPr/>
        </p:nvSpPr>
        <p:spPr>
          <a:xfrm>
            <a:off x="2857680" y="342900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lèche droite rayée 12"/>
          <p:cNvSpPr/>
          <p:nvPr/>
        </p:nvSpPr>
        <p:spPr>
          <a:xfrm rot="16200000">
            <a:off x="4429080" y="428580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e 23"/>
          <p:cNvGrpSpPr/>
          <p:nvPr/>
        </p:nvGrpSpPr>
        <p:grpSpPr>
          <a:xfrm>
            <a:off x="500040" y="1285920"/>
            <a:ext cx="3825000" cy="1950120"/>
            <a:chOff x="500040" y="1285920"/>
            <a:chExt cx="3825000" cy="1950120"/>
          </a:xfrm>
        </p:grpSpPr>
        <p:sp>
          <p:nvSpPr>
            <p:cNvPr id="208" name="Rectangle à coins arrondis 8"/>
            <p:cNvSpPr/>
            <p:nvPr/>
          </p:nvSpPr>
          <p:spPr>
            <a:xfrm>
              <a:off x="785520" y="1571400"/>
              <a:ext cx="20001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lèche droite rayée 11"/>
            <p:cNvSpPr/>
            <p:nvPr/>
          </p:nvSpPr>
          <p:spPr>
            <a:xfrm rot="12393600">
              <a:off x="3181320" y="2582640"/>
              <a:ext cx="1106280" cy="428400"/>
            </a:xfrm>
            <a:custGeom>
              <a:avLst/>
              <a:gdLst>
                <a:gd name="textAreaLeft" fmla="*/ 66960 w 1106280"/>
                <a:gd name="textAreaRight" fmla="*/ 999360 w 110628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1106488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892176" y="107156"/>
                  </a:lnTo>
                  <a:lnTo>
                    <a:pt x="892176" y="0"/>
                  </a:lnTo>
                  <a:lnTo>
                    <a:pt x="1106488" y="214313"/>
                  </a:lnTo>
                  <a:lnTo>
                    <a:pt x="892176" y="428625"/>
                  </a:lnTo>
                  <a:lnTo>
                    <a:pt x="892176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à coins arrondis 13"/>
            <p:cNvSpPr/>
            <p:nvPr/>
          </p:nvSpPr>
          <p:spPr>
            <a:xfrm>
              <a:off x="500040" y="1285920"/>
              <a:ext cx="271476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part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à coins arrondis 15"/>
          <p:cNvSpPr/>
          <p:nvPr/>
        </p:nvSpPr>
        <p:spPr>
          <a:xfrm>
            <a:off x="6500880" y="3286080"/>
            <a:ext cx="1571400" cy="357120"/>
          </a:xfrm>
          <a:prstGeom prst="wedgeRoundRectCallout">
            <a:avLst>
              <a:gd name="adj1" fmla="val -126541"/>
              <a:gd name="adj2" fmla="val 38500"/>
              <a:gd name="adj3" fmla="val 16667"/>
            </a:avLst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à coins arrondis 16"/>
          <p:cNvSpPr/>
          <p:nvPr/>
        </p:nvSpPr>
        <p:spPr>
          <a:xfrm>
            <a:off x="1428840" y="435780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lèche droite rayée 17"/>
          <p:cNvSpPr/>
          <p:nvPr/>
        </p:nvSpPr>
        <p:spPr>
          <a:xfrm rot="20359200">
            <a:off x="2963880" y="407016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e 22"/>
          <p:cNvGrpSpPr/>
          <p:nvPr/>
        </p:nvGrpSpPr>
        <p:grpSpPr>
          <a:xfrm>
            <a:off x="3929040" y="1285920"/>
            <a:ext cx="5000760" cy="2037600"/>
            <a:chOff x="3929040" y="1285920"/>
            <a:chExt cx="5000760" cy="2037600"/>
          </a:xfrm>
        </p:grpSpPr>
        <p:sp>
          <p:nvSpPr>
            <p:cNvPr id="216" name="Rectangle à coins arrondis 19"/>
            <p:cNvSpPr/>
            <p:nvPr/>
          </p:nvSpPr>
          <p:spPr>
            <a:xfrm>
              <a:off x="3929040" y="1571400"/>
              <a:ext cx="50007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fonctionnels de support scientifique 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FS) et sous-C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Domaines et sous-doma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à coins arrondis 20"/>
            <p:cNvSpPr/>
            <p:nvPr/>
          </p:nvSpPr>
          <p:spPr>
            <a:xfrm>
              <a:off x="3929040" y="1285920"/>
              <a:ext cx="47865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N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lèche droite rayée 21"/>
            <p:cNvSpPr/>
            <p:nvPr/>
          </p:nvSpPr>
          <p:spPr>
            <a:xfrm rot="19354800">
              <a:off x="5037120" y="2662200"/>
              <a:ext cx="911160" cy="428400"/>
            </a:xfrm>
            <a:custGeom>
              <a:avLst/>
              <a:gdLst>
                <a:gd name="textAreaLeft" fmla="*/ 66960 w 911160"/>
                <a:gd name="textAreaRight" fmla="*/ 804240 w 911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9112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696913" y="107156"/>
                  </a:lnTo>
                  <a:lnTo>
                    <a:pt x="696913" y="0"/>
                  </a:lnTo>
                  <a:lnTo>
                    <a:pt x="911225" y="214313"/>
                  </a:lnTo>
                  <a:lnTo>
                    <a:pt x="696913" y="428625"/>
                  </a:lnTo>
                  <a:lnTo>
                    <a:pt x="6969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CFS et domaines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85520" y="1557000"/>
            <a:ext cx="80341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abels INRA, autres (Ibisa, …) </a:t>
            </a: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(champ CFS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45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Typologie des outils collectifs  </a:t>
            </a: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(sous-champ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plateformes, plateaux, ateliers, …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45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génomique, bioinformatique, …</a:t>
            </a: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(domaine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45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(sous-domaines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21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4B2-941F-4D91-8049-D1DEBCBFA00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78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3971b"/>
                </a:solidFill>
                <a:latin typeface="Calibri"/>
              </a:rPr>
              <a:t>Description d’une activité collective expérimentale</a:t>
            </a:r>
            <a:br>
              <a:rPr sz="3200"/>
            </a:br>
            <a:r>
              <a:rPr b="0" lang="fr-FR" sz="2400" spc="-1" strike="noStrike">
                <a:solidFill>
                  <a:srgbClr val="f3971b"/>
                </a:solidFill>
                <a:latin typeface="Calibri"/>
              </a:rPr>
              <a:t>(ACE)</a:t>
            </a:r>
            <a:endParaRPr b="0" lang="en-US" sz="2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947-207F-428C-90F8-B23870D913D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lipse 5"/>
          <p:cNvSpPr/>
          <p:nvPr/>
        </p:nvSpPr>
        <p:spPr>
          <a:xfrm>
            <a:off x="4214880" y="314316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à coins arrondis 6"/>
          <p:cNvSpPr/>
          <p:nvPr/>
        </p:nvSpPr>
        <p:spPr>
          <a:xfrm>
            <a:off x="1357200" y="3357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lèche droite rayée 7"/>
          <p:cNvSpPr/>
          <p:nvPr/>
        </p:nvSpPr>
        <p:spPr>
          <a:xfrm>
            <a:off x="2857680" y="342900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lèche droite rayée 12"/>
          <p:cNvSpPr/>
          <p:nvPr/>
        </p:nvSpPr>
        <p:spPr>
          <a:xfrm rot="16200000">
            <a:off x="4429080" y="428580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e 23"/>
          <p:cNvGrpSpPr/>
          <p:nvPr/>
        </p:nvGrpSpPr>
        <p:grpSpPr>
          <a:xfrm>
            <a:off x="500040" y="1285920"/>
            <a:ext cx="3825000" cy="1950120"/>
            <a:chOff x="500040" y="1285920"/>
            <a:chExt cx="3825000" cy="1950120"/>
          </a:xfrm>
        </p:grpSpPr>
        <p:sp>
          <p:nvSpPr>
            <p:cNvPr id="232" name="Rectangle à coins arrondis 8"/>
            <p:cNvSpPr/>
            <p:nvPr/>
          </p:nvSpPr>
          <p:spPr>
            <a:xfrm>
              <a:off x="785520" y="1571400"/>
              <a:ext cx="20001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lèche droite rayée 11"/>
            <p:cNvSpPr/>
            <p:nvPr/>
          </p:nvSpPr>
          <p:spPr>
            <a:xfrm rot="12393600">
              <a:off x="3181320" y="2582640"/>
              <a:ext cx="1106280" cy="428400"/>
            </a:xfrm>
            <a:custGeom>
              <a:avLst/>
              <a:gdLst>
                <a:gd name="textAreaLeft" fmla="*/ 66960 w 1106280"/>
                <a:gd name="textAreaRight" fmla="*/ 999360 w 110628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1106488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892176" y="107156"/>
                  </a:lnTo>
                  <a:lnTo>
                    <a:pt x="892176" y="0"/>
                  </a:lnTo>
                  <a:lnTo>
                    <a:pt x="1106488" y="214313"/>
                  </a:lnTo>
                  <a:lnTo>
                    <a:pt x="892176" y="428625"/>
                  </a:lnTo>
                  <a:lnTo>
                    <a:pt x="892176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à coins arrondis 13"/>
            <p:cNvSpPr/>
            <p:nvPr/>
          </p:nvSpPr>
          <p:spPr>
            <a:xfrm>
              <a:off x="500040" y="1285920"/>
              <a:ext cx="271476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part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à coins arrondis 15"/>
          <p:cNvSpPr/>
          <p:nvPr/>
        </p:nvSpPr>
        <p:spPr>
          <a:xfrm>
            <a:off x="6500880" y="3286080"/>
            <a:ext cx="1571400" cy="357120"/>
          </a:xfrm>
          <a:prstGeom prst="wedgeRoundRectCallout">
            <a:avLst>
              <a:gd name="adj1" fmla="val -126541"/>
              <a:gd name="adj2" fmla="val 38500"/>
              <a:gd name="adj3" fmla="val 16667"/>
            </a:avLst>
          </a:prstGeom>
          <a:noFill/>
          <a:ln w="255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à coins arrondis 16"/>
          <p:cNvSpPr/>
          <p:nvPr/>
        </p:nvSpPr>
        <p:spPr>
          <a:xfrm>
            <a:off x="1428840" y="435780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èche droite rayée 17"/>
          <p:cNvSpPr/>
          <p:nvPr/>
        </p:nvSpPr>
        <p:spPr>
          <a:xfrm rot="20359200">
            <a:off x="2963880" y="407016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e 22"/>
          <p:cNvGrpSpPr/>
          <p:nvPr/>
        </p:nvGrpSpPr>
        <p:grpSpPr>
          <a:xfrm>
            <a:off x="3929040" y="1285920"/>
            <a:ext cx="5000760" cy="2037600"/>
            <a:chOff x="3929040" y="1285920"/>
            <a:chExt cx="5000760" cy="2037600"/>
          </a:xfrm>
        </p:grpSpPr>
        <p:sp>
          <p:nvSpPr>
            <p:cNvPr id="240" name="Rectangle à coins arrondis 19"/>
            <p:cNvSpPr/>
            <p:nvPr/>
          </p:nvSpPr>
          <p:spPr>
            <a:xfrm>
              <a:off x="3929040" y="1571400"/>
              <a:ext cx="50007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fonctionnels expérimentaux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FE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à coins arrondis 20"/>
            <p:cNvSpPr/>
            <p:nvPr/>
          </p:nvSpPr>
          <p:spPr>
            <a:xfrm>
              <a:off x="3929040" y="1285920"/>
              <a:ext cx="47865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N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lèche droite rayée 21"/>
            <p:cNvSpPr/>
            <p:nvPr/>
          </p:nvSpPr>
          <p:spPr>
            <a:xfrm rot="19354800">
              <a:off x="5037120" y="2662200"/>
              <a:ext cx="911160" cy="428400"/>
            </a:xfrm>
            <a:custGeom>
              <a:avLst/>
              <a:gdLst>
                <a:gd name="textAreaLeft" fmla="*/ 66960 w 911160"/>
                <a:gd name="textAreaRight" fmla="*/ 804240 w 911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9112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696913" y="107156"/>
                  </a:lnTo>
                  <a:lnTo>
                    <a:pt x="696913" y="0"/>
                  </a:lnTo>
                  <a:lnTo>
                    <a:pt x="911225" y="214313"/>
                  </a:lnTo>
                  <a:lnTo>
                    <a:pt x="696913" y="428625"/>
                  </a:lnTo>
                  <a:lnTo>
                    <a:pt x="6969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6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Grille de description des ACE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14240" y="1357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3280" indent="-41328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iste validée de 10 champs (CFE) établie par la CNUE: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nception et évaluation de système de culture ou d'élevag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nservation et gestion des ressources biologiques ou génétique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ispositif expérimental de base lié à un ensemble d'activités de recherche INRA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Expertis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Prestations de servic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085040" indent="-4147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Etc.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4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9FF1-EA78-4F71-84C0-04B4A8B797F0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3971b"/>
                </a:solidFill>
                <a:latin typeface="Calibri"/>
              </a:rPr>
              <a:t>Description d’une activité collective d’</a:t>
            </a:r>
            <a:r>
              <a:rPr b="1" lang="fr-FR" sz="3200" spc="-1" strike="noStrike">
                <a:solidFill>
                  <a:srgbClr val="f3971b"/>
                </a:solidFill>
                <a:latin typeface="Calibri"/>
              </a:rPr>
              <a:t>appui (ACA)</a:t>
            </a:r>
            <a:endParaRPr b="0" lang="en-US" sz="32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48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699-1D14-4518-ABA3-1FCEB6A5F0F9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5"/>
          <p:cNvSpPr/>
          <p:nvPr/>
        </p:nvSpPr>
        <p:spPr>
          <a:xfrm>
            <a:off x="4071960" y="3286080"/>
            <a:ext cx="100008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à coins arrondis 6"/>
          <p:cNvSpPr/>
          <p:nvPr/>
        </p:nvSpPr>
        <p:spPr>
          <a:xfrm>
            <a:off x="1214280" y="350028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lèche droite rayée 7"/>
          <p:cNvSpPr/>
          <p:nvPr/>
        </p:nvSpPr>
        <p:spPr>
          <a:xfrm>
            <a:off x="2714760" y="3571920"/>
            <a:ext cx="1285920" cy="42876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à coins arrondis 10"/>
          <p:cNvSpPr/>
          <p:nvPr/>
        </p:nvSpPr>
        <p:spPr>
          <a:xfrm>
            <a:off x="3643200" y="500076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lèche droite rayée 12"/>
          <p:cNvSpPr/>
          <p:nvPr/>
        </p:nvSpPr>
        <p:spPr>
          <a:xfrm rot="16200000">
            <a:off x="4286160" y="4428720"/>
            <a:ext cx="571320" cy="428400"/>
          </a:xfrm>
          <a:custGeom>
            <a:avLst/>
            <a:gdLst>
              <a:gd name="textAreaLeft" fmla="*/ 66960 w 571320"/>
              <a:gd name="textAreaRight" fmla="*/ 464400 w 571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à coins arrondis 16"/>
          <p:cNvSpPr/>
          <p:nvPr/>
        </p:nvSpPr>
        <p:spPr>
          <a:xfrm>
            <a:off x="1285920" y="45007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lèche droite rayée 17"/>
          <p:cNvSpPr/>
          <p:nvPr/>
        </p:nvSpPr>
        <p:spPr>
          <a:xfrm rot="20359200">
            <a:off x="2820960" y="4212720"/>
            <a:ext cx="1285920" cy="42876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à coins arrondis 18"/>
          <p:cNvSpPr/>
          <p:nvPr/>
        </p:nvSpPr>
        <p:spPr>
          <a:xfrm>
            <a:off x="3643200" y="557208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à coins arrondis 19"/>
          <p:cNvSpPr/>
          <p:nvPr/>
        </p:nvSpPr>
        <p:spPr>
          <a:xfrm>
            <a:off x="3643200" y="2286000"/>
            <a:ext cx="500076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Champs fonctionnels d’appui (C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à coins arrondis 20"/>
          <p:cNvSpPr/>
          <p:nvPr/>
        </p:nvSpPr>
        <p:spPr>
          <a:xfrm>
            <a:off x="3643200" y="2214720"/>
            <a:ext cx="478656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G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èche droite rayée 21"/>
          <p:cNvSpPr/>
          <p:nvPr/>
        </p:nvSpPr>
        <p:spPr>
          <a:xfrm rot="19354800">
            <a:off x="5037120" y="3018960"/>
            <a:ext cx="911160" cy="428760"/>
          </a:xfrm>
          <a:custGeom>
            <a:avLst/>
            <a:gdLst>
              <a:gd name="textAreaLeft" fmla="*/ 66960 w 911160"/>
              <a:gd name="textAreaRight" fmla="*/ 804240 w 91116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911225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696913" y="107156"/>
                </a:lnTo>
                <a:lnTo>
                  <a:pt x="696913" y="0"/>
                </a:lnTo>
                <a:lnTo>
                  <a:pt x="911225" y="214313"/>
                </a:lnTo>
                <a:lnTo>
                  <a:pt x="696913" y="428625"/>
                </a:lnTo>
                <a:lnTo>
                  <a:pt x="696913" y="321469"/>
                </a:lnTo>
                <a:lnTo>
                  <a:pt x="66973" y="321469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Grille de description des ACA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6760" y="1142640"/>
            <a:ext cx="86439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6600" indent="-426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iste validée de 11 champs fonctionnels d’appui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Affaires juridique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mmunic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Gestion des ressources financière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Gestion des ressources humaine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Information Scientifique et Techn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ogistiqu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Management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Partenariat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Secrétariat, affaires générale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Systèmes d'inform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2066400" indent="-428400"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Travaux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63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1FF-F44E-4F52-823D-780DE29D027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contenu 2"/>
          <p:cNvSpPr/>
          <p:nvPr/>
        </p:nvSpPr>
        <p:spPr>
          <a:xfrm>
            <a:off x="357120" y="6367320"/>
            <a:ext cx="8643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4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llipse 7"/>
          <p:cNvSpPr/>
          <p:nvPr/>
        </p:nvSpPr>
        <p:spPr>
          <a:xfrm>
            <a:off x="214200" y="3571920"/>
            <a:ext cx="1285920" cy="928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78609"/>
                </a:solidFill>
                <a:latin typeface="Arial"/>
              </a:rPr>
              <a:t>C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ccolade ouvrante 8"/>
          <p:cNvSpPr/>
          <p:nvPr/>
        </p:nvSpPr>
        <p:spPr>
          <a:xfrm>
            <a:off x="1357200" y="1785960"/>
            <a:ext cx="500040" cy="43797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379760"/>
              <a:gd name="textAreaBottom" fmla="*/ 4366800 h 437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786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3971b"/>
                </a:solidFill>
                <a:latin typeface="Calibri"/>
              </a:rPr>
              <a:t>Description d’une activité collective d’</a:t>
            </a:r>
            <a:r>
              <a:rPr b="1" lang="fr-FR" sz="3200" spc="-1" strike="noStrike">
                <a:solidFill>
                  <a:srgbClr val="f3971b"/>
                </a:solidFill>
                <a:latin typeface="Calibri"/>
              </a:rPr>
              <a:t>appui (ACA)</a:t>
            </a:r>
            <a:endParaRPr b="0" lang="en-US" sz="32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69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CCEA-0528-4750-A181-9503D93C4C9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llipse 5"/>
          <p:cNvSpPr/>
          <p:nvPr/>
        </p:nvSpPr>
        <p:spPr>
          <a:xfrm>
            <a:off x="3500280" y="3714840"/>
            <a:ext cx="1000440" cy="92844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à coins arrondis 6"/>
          <p:cNvSpPr/>
          <p:nvPr/>
        </p:nvSpPr>
        <p:spPr>
          <a:xfrm>
            <a:off x="642960" y="392904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lèche droite rayée 7"/>
          <p:cNvSpPr/>
          <p:nvPr/>
        </p:nvSpPr>
        <p:spPr>
          <a:xfrm>
            <a:off x="2143080" y="400068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à coins arrondis 10"/>
          <p:cNvSpPr/>
          <p:nvPr/>
        </p:nvSpPr>
        <p:spPr>
          <a:xfrm>
            <a:off x="307188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èche droite rayée 12"/>
          <p:cNvSpPr/>
          <p:nvPr/>
        </p:nvSpPr>
        <p:spPr>
          <a:xfrm rot="16200000">
            <a:off x="3714480" y="4857480"/>
            <a:ext cx="571680" cy="428760"/>
          </a:xfrm>
          <a:custGeom>
            <a:avLst/>
            <a:gdLst>
              <a:gd name="textAreaLeft" fmla="*/ 66960 w 571680"/>
              <a:gd name="textAreaRight" fmla="*/ 464760 w 57168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à coins arrondis 16"/>
          <p:cNvSpPr/>
          <p:nvPr/>
        </p:nvSpPr>
        <p:spPr>
          <a:xfrm>
            <a:off x="714240" y="4929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partici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èche droite rayée 17"/>
          <p:cNvSpPr/>
          <p:nvPr/>
        </p:nvSpPr>
        <p:spPr>
          <a:xfrm rot="20359200">
            <a:off x="2249640" y="4641840"/>
            <a:ext cx="1285560" cy="428760"/>
          </a:xfrm>
          <a:custGeom>
            <a:avLst/>
            <a:gdLst>
              <a:gd name="textAreaLeft" fmla="*/ 66960 w 1285560"/>
              <a:gd name="textAreaRight" fmla="*/ 1214280 w 1285560"/>
              <a:gd name="textAreaTop" fmla="*/ 135720 h 428760"/>
              <a:gd name="textAreaBottom" fmla="*/ 293040 h 42876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>
              <a:alpha val="51000"/>
            </a:srgbClr>
          </a:solidFill>
          <a:ln w="25560">
            <a:solidFill>
              <a:srgbClr val="fad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à coins arrondis 18"/>
          <p:cNvSpPr/>
          <p:nvPr/>
        </p:nvSpPr>
        <p:spPr>
          <a:xfrm>
            <a:off x="3071880" y="6000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à coins arrondis 19"/>
          <p:cNvSpPr/>
          <p:nvPr/>
        </p:nvSpPr>
        <p:spPr>
          <a:xfrm>
            <a:off x="3071880" y="2714760"/>
            <a:ext cx="500040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Champs fonctionnels d’appui (C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à coins arrondis 20"/>
          <p:cNvSpPr/>
          <p:nvPr/>
        </p:nvSpPr>
        <p:spPr>
          <a:xfrm>
            <a:off x="3071880" y="2643120"/>
            <a:ext cx="478620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G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lèche droite rayée 21"/>
          <p:cNvSpPr/>
          <p:nvPr/>
        </p:nvSpPr>
        <p:spPr>
          <a:xfrm rot="19354800">
            <a:off x="4465800" y="3447720"/>
            <a:ext cx="911160" cy="428760"/>
          </a:xfrm>
          <a:custGeom>
            <a:avLst/>
            <a:gdLst>
              <a:gd name="textAreaLeft" fmla="*/ 66960 w 911160"/>
              <a:gd name="textAreaRight" fmla="*/ 804240 w 911160"/>
              <a:gd name="textAreaTop" fmla="*/ 106920 h 428760"/>
              <a:gd name="textAreaBottom" fmla="*/ 321840 h 428760"/>
            </a:gdLst>
            <a:ahLst/>
            <a:rect l="textAreaLeft" t="textAreaTop" r="textAreaRight" b="textAreaBottom"/>
            <a:pathLst>
              <a:path w="911225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696913" y="107156"/>
                </a:lnTo>
                <a:lnTo>
                  <a:pt x="696913" y="0"/>
                </a:lnTo>
                <a:lnTo>
                  <a:pt x="911225" y="214313"/>
                </a:lnTo>
                <a:lnTo>
                  <a:pt x="696913" y="428625"/>
                </a:lnTo>
                <a:lnTo>
                  <a:pt x="696913" y="321469"/>
                </a:lnTo>
                <a:lnTo>
                  <a:pt x="66973" y="321469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à coins arrondis 22"/>
          <p:cNvSpPr/>
          <p:nvPr/>
        </p:nvSpPr>
        <p:spPr>
          <a:xfrm>
            <a:off x="3786120" y="1357200"/>
            <a:ext cx="5000760" cy="71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436ba7"/>
                </a:solidFill>
                <a:latin typeface="Arial"/>
              </a:rPr>
              <a:t>Sous-champ fonctionnel d’ap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à coins arrondis 23"/>
          <p:cNvSpPr/>
          <p:nvPr/>
        </p:nvSpPr>
        <p:spPr>
          <a:xfrm>
            <a:off x="3786120" y="1285920"/>
            <a:ext cx="478656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R =&gt; DG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lèche droite rayée 24"/>
          <p:cNvSpPr/>
          <p:nvPr/>
        </p:nvSpPr>
        <p:spPr>
          <a:xfrm rot="19354800">
            <a:off x="5621040" y="2055960"/>
            <a:ext cx="787320" cy="428400"/>
          </a:xfrm>
          <a:custGeom>
            <a:avLst/>
            <a:gdLst>
              <a:gd name="textAreaLeft" fmla="*/ 66960 w 787320"/>
              <a:gd name="textAreaRight" fmla="*/ 680400 w 78732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7874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573088" y="107156"/>
                </a:lnTo>
                <a:lnTo>
                  <a:pt x="573088" y="0"/>
                </a:lnTo>
                <a:lnTo>
                  <a:pt x="787400" y="214313"/>
                </a:lnTo>
                <a:lnTo>
                  <a:pt x="573088" y="428625"/>
                </a:lnTo>
                <a:lnTo>
                  <a:pt x="573088" y="321469"/>
                </a:lnTo>
                <a:lnTo>
                  <a:pt x="66973" y="321469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Grille de description des ACA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6760" y="1285920"/>
            <a:ext cx="864396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iste de sous-champs (SCFA) pour chaque champ fonctionnel d’appui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Exempl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f78609"/>
                </a:solidFill>
                <a:latin typeface="Calibri"/>
              </a:rPr>
              <a:t>Champ fonctionnel Ressources humaines 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Accueils et recrutement, dont renseignement PEPS sur S2I-RH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Action sociale et médical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Formation permanente, orientation professionnell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Gestion des congés, absences, cycles de travail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Prévention, sécurité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2" marL="1839960" indent="-228600">
              <a:buClr>
                <a:srgbClr val="f491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36ba7"/>
                </a:solidFill>
                <a:latin typeface="Calibri"/>
              </a:rPr>
              <a:t>Procédures RH (entretien, promotion, mobilité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87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194-39E6-42A5-AB93-F4269927062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2560" y="1428840"/>
            <a:ext cx="9001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78609"/>
                </a:solidFill>
                <a:latin typeface="Calibri"/>
              </a:rPr>
              <a:t>La collecte des activités 2011</a:t>
            </a: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78609"/>
                </a:solidFill>
                <a:latin typeface="Calibri"/>
              </a:rPr>
              <a:t>Vue du département SPE</a:t>
            </a: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1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DBCC-CF23-401B-878F-832570A7314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contenu 2"/>
          <p:cNvSpPr/>
          <p:nvPr/>
        </p:nvSpPr>
        <p:spPr>
          <a:xfrm>
            <a:off x="214200" y="4929120"/>
            <a:ext cx="8358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s objectifs…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320" y="1428480"/>
            <a:ext cx="83581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33360" indent="-33336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artographie de l'ensemble des activités de l'institut fin 2010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74800" indent="-3344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courrier de lancement de la collecte DG </a:t>
            </a:r>
            <a:r>
              <a:rPr b="0" lang="fr-FR" sz="2000" spc="-1" strike="noStrike">
                <a:solidFill>
                  <a:srgbClr val="436ba7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CD puis CD </a:t>
            </a:r>
            <a:r>
              <a:rPr b="0" lang="fr-FR" sz="2000" spc="-1" strike="noStrike">
                <a:solidFill>
                  <a:srgbClr val="436ba7"/>
                </a:solidFill>
                <a:latin typeface="Wingdings"/>
                <a:ea typeface="Wingdings"/>
              </a:rPr>
              <a:t></a:t>
            </a: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DU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333360" indent="-33336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mmunication interne et extern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74800" indent="-3344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Annuaire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333360" indent="-33336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Outils de reporting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74800" indent="-3344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Restitution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874800" indent="-3344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Synthèses, indicateurs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38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F961-4DDA-41A1-999E-73CE91DF2384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contenu 2"/>
          <p:cNvSpPr/>
          <p:nvPr/>
        </p:nvSpPr>
        <p:spPr>
          <a:xfrm>
            <a:off x="571680" y="4429080"/>
            <a:ext cx="8358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es données intégrées au systèm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  <a:ea typeface="Arial"/>
              </a:rPr>
              <a:t>Référentiels institu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  <a:ea typeface="Arial"/>
              </a:rPr>
              <a:t>Saisie unique de l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920" y="259920"/>
            <a:ext cx="8858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3971b"/>
                </a:solidFill>
                <a:latin typeface="Calibri"/>
              </a:rPr>
              <a:t>Les données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14240" y="1357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Données alimentées à partir de CompACt (été 2008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Consolidation par les départements 2009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Seules les données validées et complètes doivent apparaitre dans l’annuair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E9E-CFB6-472F-A49B-E344FBEFA2A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ilotage collect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55280" y="1143000"/>
            <a:ext cx="838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 l’échelle du département SPE :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Valider les champs thématiques auxquels les activités seront rattachée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299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61E-06DE-46E1-953C-713E9B4440CE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28760" y="2571840"/>
            <a:ext cx="8715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6760" indent="-896760"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PE-CT1 : Génomique fonctionnelle et biologie intégrative des interactions biotiques autour de la plante cultiv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96760" indent="-896760"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fr-FR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-CT3 : Écologie des communautés inféodées aux agrosystèmes : effet de l'évolution des pratiques agrico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96760" indent="-896760"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PE-CT2 : Caractérisation des espèces et des populations d'organismes associés aux cultures ; mécanismes des épidém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96760" indent="-896760">
              <a:tabLst>
                <a:tab algn="l" pos="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PE-CT4 : Stratégies et méthodes de gestion des contraintes biotiques dans les agro-écosystè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Rectangle 12" descr=""/>
          <p:cNvPicPr/>
          <p:nvPr/>
        </p:nvPicPr>
        <p:blipFill>
          <a:blip r:embed="rId3"/>
          <a:stretch/>
        </p:blipFill>
        <p:spPr>
          <a:xfrm>
            <a:off x="171360" y="4187880"/>
            <a:ext cx="9069480" cy="1871640"/>
          </a:xfrm>
          <a:prstGeom prst="rect">
            <a:avLst/>
          </a:prstGeom>
          <a:ln w="0">
            <a:noFill/>
          </a:ln>
        </p:spPr>
      </p:pic>
      <p:sp>
        <p:nvSpPr>
          <p:cNvPr id="303" name="Espace réservé du contenu 2"/>
          <p:cNvSpPr/>
          <p:nvPr/>
        </p:nvSpPr>
        <p:spPr>
          <a:xfrm>
            <a:off x="755640" y="6066000"/>
            <a:ext cx="838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Valider les activités propo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rocédure pour la collect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0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0D96-5A82-4AE9-8A06-356F65871337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contenu 2"/>
          <p:cNvSpPr/>
          <p:nvPr/>
        </p:nvSpPr>
        <p:spPr>
          <a:xfrm>
            <a:off x="500040" y="1357200"/>
            <a:ext cx="842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our les un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Mettre à jour les 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  <a:ea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Inactiver les activités actuelles au 31/12/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Créer des activités en conformité avec le nouveau S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contenu 2"/>
          <p:cNvSpPr/>
          <p:nvPr/>
        </p:nvSpPr>
        <p:spPr>
          <a:xfrm>
            <a:off x="3571920" y="4500720"/>
            <a:ext cx="5572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Descripteurs / type AC</a:t>
            </a:r>
            <a:br>
              <a:rPr sz="2800"/>
            </a:b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(CT, animateurs, mots-cl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Participations des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Cas des AC in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57120" y="4643280"/>
            <a:ext cx="60008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095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" charset="2"/>
              <a:buChar char="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9100"/>
                </a:solidFill>
                <a:latin typeface="Calibri"/>
              </a:rPr>
              <a:t>Impact sur histo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95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" charset="2"/>
              <a:buChar char="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49100"/>
                </a:solidFill>
                <a:latin typeface="Calibri"/>
              </a:rPr>
              <a:t>Impact opérationnel</a:t>
            </a:r>
            <a:br>
              <a:rPr sz="2800"/>
            </a:br>
            <a:r>
              <a:rPr b="1" lang="fr-FR" sz="2800" spc="-1" strike="noStrike">
                <a:solidFill>
                  <a:srgbClr val="f49100"/>
                </a:solidFill>
                <a:latin typeface="Calibri"/>
              </a:rPr>
              <a:t>sur la sai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85520" y="142920"/>
            <a:ext cx="7715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49100"/>
                </a:solidFill>
                <a:latin typeface="Calibri"/>
              </a:rPr>
              <a:t>Participation d'un agent à une activité collective</a:t>
            </a:r>
            <a:endParaRPr b="0" lang="en-US" sz="40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285920"/>
            <a:ext cx="85010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e taux de participation à une ou plusieurs activités pour un agent est renseigné par le </a:t>
            </a:r>
            <a:r>
              <a:rPr b="1" lang="fr-FR" sz="2400" spc="-1" strike="noStrike">
                <a:solidFill>
                  <a:srgbClr val="436ba7"/>
                </a:solidFill>
                <a:latin typeface="Calibri"/>
              </a:rPr>
              <a:t>DU de l’unité leader 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et/ou par l’animateur.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45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Un agent peut participer à plusieurs activités de différents types simultanément, y compris hors de son unité d'affectation ( unité participante ou non).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3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e taux de participation à une AC ne peut être inférieur à 20%.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La somme des participations d'un même agent sur :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ACR doit être si possible de 100%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ACE+ACS+ACA jusqu’à 100%</a:t>
            </a:r>
            <a:br>
              <a:rPr sz="2000"/>
            </a:br>
            <a:r>
              <a:rPr b="0" lang="fr-FR" sz="20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12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22C9-2C12-4E3D-9590-DB91ABCC6823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articipation AC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28400" y="1285920"/>
            <a:ext cx="804204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5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36ba7"/>
                </a:solidFill>
                <a:latin typeface="Calibri"/>
              </a:rPr>
              <a:t>Sur ACR, </a:t>
            </a:r>
            <a:r>
              <a:rPr b="0" lang="fr-FR" sz="2200" spc="-1" strike="noStrike">
                <a:solidFill>
                  <a:srgbClr val="669900"/>
                </a:solidFill>
                <a:latin typeface="Calibri"/>
              </a:rPr>
              <a:t>seule la quotité de participation des chercheurs/ingénieurs </a:t>
            </a:r>
            <a:r>
              <a:rPr b="0" lang="fr-FR" sz="2200" spc="-1" strike="noStrike">
                <a:solidFill>
                  <a:srgbClr val="436ba7"/>
                </a:solidFill>
                <a:latin typeface="Calibri"/>
              </a:rPr>
              <a:t>est enregistrée. </a:t>
            </a: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55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36ba7"/>
                </a:solidFill>
                <a:latin typeface="Calibri"/>
              </a:rPr>
              <a:t>Les agents des autres catégories ont un </a:t>
            </a:r>
            <a:r>
              <a:rPr b="0" lang="fr-FR" sz="2200" spc="-1" strike="noStrike">
                <a:solidFill>
                  <a:srgbClr val="669900"/>
                </a:solidFill>
                <a:latin typeface="Calibri"/>
              </a:rPr>
              <a:t>participation individuelle équivalente au prorata de participation des chercheurs/ingénieurs</a:t>
            </a:r>
            <a:r>
              <a:rPr b="0" lang="fr-FR" sz="2200" spc="-1" strike="noStrike">
                <a:solidFill>
                  <a:srgbClr val="436ba7"/>
                </a:solidFill>
                <a:latin typeface="Calibri"/>
              </a:rPr>
              <a:t> de leur unité sur les ACR. </a:t>
            </a: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55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36ba7"/>
                </a:solidFill>
                <a:latin typeface="Calibri"/>
              </a:rPr>
              <a:t>Exemple :</a:t>
            </a: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55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15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6BE5-CD34-499F-B860-918A5BC3F76D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71680" y="3643200"/>
          <a:ext cx="8072280" cy="2595600"/>
        </p:xfrm>
        <a:graphic>
          <a:graphicData uri="http://schemas.openxmlformats.org/drawingml/2006/table">
            <a:tbl>
              <a:tblPr/>
              <a:tblGrid>
                <a:gridCol w="1614240"/>
                <a:gridCol w="1614600"/>
                <a:gridCol w="1614600"/>
                <a:gridCol w="1614240"/>
                <a:gridCol w="161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égo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XX+YY+VV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71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’application de gestion des activité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57160" y="142884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36ba7"/>
                </a:solidFill>
                <a:latin typeface="Calibri"/>
              </a:rPr>
              <a:t>https://intranet-saisie-activites.inra.fr/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rôle de CD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rôle de DU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s rôles d’animateur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a délégation de rôl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19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4E16-A2DC-416E-A2F9-B980194C59CE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858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 rôle de chef de département (CD)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5280" y="1628640"/>
            <a:ext cx="738828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46680" indent="-34668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Gestion des champs thématique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909720" indent="-34776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ré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909720" indent="-34776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Modific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909720" indent="-34776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909720" indent="-34776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nsult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346680" indent="-34668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Validation des activités proposées par les DU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346680" indent="-34668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criptif du département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346680" indent="-34668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Mots-clés du département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C1FF-0CC1-469F-9F8D-F78E41DC5C4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 rôle du directeur d’unité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280" y="1628640"/>
            <a:ext cx="80312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0040" indent="-32004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Gestion des activités collectives (AC..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ré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Modific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(dont transfert vers une autre unité)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Suppress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Consultation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49100"/>
                </a:solidFill>
                <a:latin typeface="Calibri"/>
              </a:rPr>
              <a:t>Recommandation : s’appuyer sur les animateur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320040" indent="-32004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criptif de l’unité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839880" indent="-32112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471F-0D78-47BD-89BE-1DF4439D3FC4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560" y="1428840"/>
            <a:ext cx="9001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78609"/>
                </a:solidFill>
                <a:latin typeface="Calibri"/>
              </a:rPr>
              <a:t>Les apports en sortie de campagne</a:t>
            </a: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29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64A-EBE7-40D4-B705-3399D4D3F48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space réservé du contenu 2"/>
          <p:cNvSpPr/>
          <p:nvPr/>
        </p:nvSpPr>
        <p:spPr>
          <a:xfrm>
            <a:off x="214200" y="4929120"/>
            <a:ext cx="8358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71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Une visibilité des activité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3880" y="1785600"/>
            <a:ext cx="82155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Intitulés, dates, type d’AC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1199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Structures impliquée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nimateur(s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articipation des agent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Grille de description commune (CT, CF, SCF…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34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962-C5BB-44F2-91EB-F1CAB5081C58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5"/>
          <p:cNvSpPr/>
          <p:nvPr/>
        </p:nvSpPr>
        <p:spPr>
          <a:xfrm>
            <a:off x="4071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78609"/>
                </a:solidFill>
                <a:latin typeface="Wingdings"/>
                <a:ea typeface="Wingdings"/>
              </a:rPr>
              <a:t>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Contact identif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oneTexte 6"/>
          <p:cNvSpPr/>
          <p:nvPr/>
        </p:nvSpPr>
        <p:spPr>
          <a:xfrm>
            <a:off x="4000680" y="55008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78609"/>
                </a:solidFill>
                <a:latin typeface="Wingdings"/>
                <a:ea typeface="Wingdings"/>
              </a:rPr>
              <a:t>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Agrégation d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oneTexte 8"/>
          <p:cNvSpPr/>
          <p:nvPr/>
        </p:nvSpPr>
        <p:spPr>
          <a:xfrm>
            <a:off x="5500800" y="2857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ad5a4"/>
                </a:solidFill>
                <a:latin typeface="Wingdings"/>
                <a:ea typeface="Wingdings"/>
              </a:rPr>
              <a:t></a:t>
            </a:r>
            <a:r>
              <a:rPr b="0" i="1" lang="fr-FR" sz="1800" spc="-1" strike="noStrike">
                <a:solidFill>
                  <a:srgbClr val="fad5a4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ad5a4"/>
                </a:solidFill>
                <a:latin typeface="Arial"/>
              </a:rPr>
              <a:t>Contribu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9"/>
          <p:cNvSpPr/>
          <p:nvPr/>
        </p:nvSpPr>
        <p:spPr>
          <a:xfrm>
            <a:off x="5530680" y="2500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78609"/>
                </a:solidFill>
                <a:latin typeface="Wingdings"/>
                <a:ea typeface="Wingdings"/>
              </a:rPr>
              <a:t>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Por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1"/>
          <p:cNvSpPr/>
          <p:nvPr/>
        </p:nvSpPr>
        <p:spPr>
          <a:xfrm>
            <a:off x="3929040" y="42861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eb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78609"/>
                </a:solidFill>
                <a:latin typeface="Arial"/>
              </a:rPr>
              <a:t>Contributions individuelles à un </a:t>
            </a:r>
            <a:r>
              <a:rPr b="1" lang="fr-FR" sz="1800" spc="-1" strike="noStrike">
                <a:solidFill>
                  <a:srgbClr val="f78609"/>
                </a:solidFill>
                <a:latin typeface="Arial"/>
              </a:rPr>
              <a:t>colle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s données intégrées au SI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4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0BB-CEF8-42EF-AB83-39D72D577556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263520" y="4060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6" descr="Z:\Rapports clients\INRA-SI-Scenarii\Rich media\illustrationsProdInraPNG\cube_2.png"/>
          <p:cNvPicPr/>
          <p:nvPr/>
        </p:nvPicPr>
        <p:blipFill>
          <a:blip r:embed="rId1"/>
          <a:stretch/>
        </p:blipFill>
        <p:spPr>
          <a:xfrm>
            <a:off x="2532240" y="1523880"/>
            <a:ext cx="4668840" cy="4240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487440" y="482760"/>
            <a:ext cx="8850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age 18" descr="cube.png"/>
          <p:cNvPicPr/>
          <p:nvPr/>
        </p:nvPicPr>
        <p:blipFill>
          <a:blip r:embed="rId2"/>
          <a:stretch/>
        </p:blipFill>
        <p:spPr>
          <a:xfrm>
            <a:off x="1285920" y="1428840"/>
            <a:ext cx="6926040" cy="49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Pour accéder aux données …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280" y="1628640"/>
            <a:ext cx="803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spcAft>
                <a:spcPts val="24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En interne à l’unité :  </a:t>
            </a:r>
            <a:br>
              <a:rPr sz="3200"/>
            </a:b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Editions dans l’application de gestion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spcAft>
                <a:spcPts val="24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Hors unité :</a:t>
            </a:r>
            <a:br>
              <a:rPr sz="3200"/>
            </a:b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nnuaire </a:t>
            </a: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https://intranet.annuaire.inra.fr</a:t>
            </a:r>
            <a:br>
              <a:rPr sz="2400"/>
            </a:b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(moteur de recherche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43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95E2-1521-4F8D-967C-C597ED4EAD0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71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xtractions de données croisées 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14240" y="185724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01"/>
              </a:spcBef>
              <a:spcAft>
                <a:spcPts val="6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Rapports simples :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spcAft>
                <a:spcPts val="601"/>
              </a:spcAft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Ex. : listes de personnes contribuant aux activités d’une structure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spcAft>
                <a:spcPts val="6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grégation des donnée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liées à des champs fonctionnel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d’un département,</a:t>
            </a:r>
            <a:br>
              <a:rPr sz="2800"/>
            </a:b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par champ thématique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601"/>
              </a:spcBef>
              <a:spcAft>
                <a:spcPts val="6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436ba7"/>
                </a:solidFill>
                <a:latin typeface="Calibri"/>
              </a:rPr>
              <a:t>Rapports ad hoc (à venir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47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D61-A69F-4DED-9827-03394D774C66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3714840" y="121428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ta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4711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Un accompagnement de la collect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71468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00"/>
              </a:spcBef>
              <a:spcAft>
                <a:spcPts val="1800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présentations en réunion de département et dans les centre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spcAft>
                <a:spcPts val="601"/>
              </a:spcAft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Un accompagnement - Support 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Aft>
                <a:spcPts val="1800"/>
              </a:spcAft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ctivites@inra.fr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documents d’aide 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Un guide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Des fiches utilisateurs, une faq, des vidéos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Un environnement de test :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http://activites-integration.jouy.inra.fr/ihm-activites/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601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35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5C8-F861-4F1C-A8E0-F831E9BFC77B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C:\Users\ADalmon\AppData\Local\Microsoft\Windows\Temporary Internet Files\Content.IE5\GA6W6MDN\MC900345649[1].wmf"/>
          <p:cNvPicPr/>
          <p:nvPr/>
        </p:nvPicPr>
        <p:blipFill>
          <a:blip r:embed="rId1"/>
          <a:stretch/>
        </p:blipFill>
        <p:spPr>
          <a:xfrm>
            <a:off x="6653160" y="3286080"/>
            <a:ext cx="2067120" cy="1995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C:\Users\ADalmon\AppData\Local\Microsoft\Windows\Temporary Internet Files\Content.IE5\GA6W6MDN\MC900434411[1].wmf"/>
          <p:cNvPicPr/>
          <p:nvPr/>
        </p:nvPicPr>
        <p:blipFill>
          <a:blip r:embed="rId2"/>
          <a:stretch/>
        </p:blipFill>
        <p:spPr>
          <a:xfrm>
            <a:off x="428760" y="2857680"/>
            <a:ext cx="4492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Espace réservé du contenu 16" descr="accueilCD2.jpg"/>
          <p:cNvPicPr/>
          <p:nvPr/>
        </p:nvPicPr>
        <p:blipFill>
          <a:blip r:embed="rId1"/>
          <a:stretch/>
        </p:blipFill>
        <p:spPr>
          <a:xfrm>
            <a:off x="785880" y="1928880"/>
            <a:ext cx="7715160" cy="37893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cran d’accueil CD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58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011A-D580-461D-808A-C2A35BB309E9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Bulle ronde 5"/>
          <p:cNvSpPr/>
          <p:nvPr/>
        </p:nvSpPr>
        <p:spPr>
          <a:xfrm>
            <a:off x="6286680" y="1285920"/>
            <a:ext cx="2286000" cy="571320"/>
          </a:xfrm>
          <a:prstGeom prst="wedgeEllipseCallout">
            <a:avLst>
              <a:gd name="adj1" fmla="val -102731"/>
              <a:gd name="adj2" fmla="val 65731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voie à la page de choix d’un rô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Bulle ronde 6"/>
          <p:cNvSpPr/>
          <p:nvPr/>
        </p:nvSpPr>
        <p:spPr>
          <a:xfrm>
            <a:off x="6858000" y="2857680"/>
            <a:ext cx="1785960" cy="642600"/>
          </a:xfrm>
          <a:prstGeom prst="wedgeEllipseCallout">
            <a:avLst>
              <a:gd name="adj1" fmla="val -11796"/>
              <a:gd name="adj2" fmla="val -100189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voie à cette page d’accu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Bulle ronde 7"/>
          <p:cNvSpPr/>
          <p:nvPr/>
        </p:nvSpPr>
        <p:spPr>
          <a:xfrm>
            <a:off x="214200" y="857160"/>
            <a:ext cx="1714680" cy="1214640"/>
          </a:xfrm>
          <a:prstGeom prst="wedgeEllipseCallout">
            <a:avLst>
              <a:gd name="adj1" fmla="val -12106"/>
              <a:gd name="adj2" fmla="val 91268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nu de gauche : choix des actions poss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à coins arrondis 10"/>
          <p:cNvSpPr/>
          <p:nvPr/>
        </p:nvSpPr>
        <p:spPr>
          <a:xfrm>
            <a:off x="785880" y="2571840"/>
            <a:ext cx="135720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à coins arrondis 11"/>
          <p:cNvSpPr/>
          <p:nvPr/>
        </p:nvSpPr>
        <p:spPr>
          <a:xfrm>
            <a:off x="2214720" y="2643120"/>
            <a:ext cx="614340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au de b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Bulle ronde 12"/>
          <p:cNvSpPr/>
          <p:nvPr/>
        </p:nvSpPr>
        <p:spPr>
          <a:xfrm>
            <a:off x="6929280" y="5214960"/>
            <a:ext cx="1785960" cy="1143000"/>
          </a:xfrm>
          <a:prstGeom prst="wedgeEllipseCallout">
            <a:avLst>
              <a:gd name="adj1" fmla="val -132597"/>
              <a:gd name="adj2" fmla="val -38342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nu central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oix des actions poss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à coins arrondis 13"/>
          <p:cNvSpPr/>
          <p:nvPr/>
        </p:nvSpPr>
        <p:spPr>
          <a:xfrm>
            <a:off x="2286000" y="4000680"/>
            <a:ext cx="607212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Bulle ronde 14"/>
          <p:cNvSpPr/>
          <p:nvPr/>
        </p:nvSpPr>
        <p:spPr>
          <a:xfrm>
            <a:off x="8072280" y="2071800"/>
            <a:ext cx="857520" cy="571320"/>
          </a:xfrm>
          <a:prstGeom prst="wedgeEllipseCallout">
            <a:avLst>
              <a:gd name="adj1" fmla="val -33472"/>
              <a:gd name="adj2" fmla="val -54601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l’a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à coins arrondis 17"/>
          <p:cNvSpPr/>
          <p:nvPr/>
        </p:nvSpPr>
        <p:spPr>
          <a:xfrm>
            <a:off x="785880" y="3929040"/>
            <a:ext cx="135720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Bulle ronde 18"/>
          <p:cNvSpPr/>
          <p:nvPr/>
        </p:nvSpPr>
        <p:spPr>
          <a:xfrm>
            <a:off x="214200" y="5286240"/>
            <a:ext cx="1785960" cy="642960"/>
          </a:xfrm>
          <a:prstGeom prst="wedgeEllipseCallout">
            <a:avLst>
              <a:gd name="adj1" fmla="val 7402"/>
              <a:gd name="adj2" fmla="val -76486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xport de li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6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089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cran d’accueil DU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E006-53AA-4E36-9A8E-E474F1BE8690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Bulle ronde 5"/>
          <p:cNvSpPr/>
          <p:nvPr/>
        </p:nvSpPr>
        <p:spPr>
          <a:xfrm>
            <a:off x="611280" y="549360"/>
            <a:ext cx="1785960" cy="642960"/>
          </a:xfrm>
          <a:prstGeom prst="wedgeEllipseCallout">
            <a:avLst>
              <a:gd name="adj1" fmla="val 31689"/>
              <a:gd name="adj2" fmla="val 13790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url act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Bulle ronde 13"/>
          <p:cNvSpPr/>
          <p:nvPr/>
        </p:nvSpPr>
        <p:spPr>
          <a:xfrm>
            <a:off x="6357960" y="1500120"/>
            <a:ext cx="2286000" cy="857160"/>
          </a:xfrm>
          <a:prstGeom prst="wedgeEllipseCallout">
            <a:avLst>
              <a:gd name="adj1" fmla="val -64398"/>
              <a:gd name="adj2" fmla="val 169069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l’écran d’édition-modification de l’A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ulle ronde 14"/>
          <p:cNvSpPr/>
          <p:nvPr/>
        </p:nvSpPr>
        <p:spPr>
          <a:xfrm>
            <a:off x="7667640" y="4221000"/>
            <a:ext cx="1857240" cy="928800"/>
          </a:xfrm>
          <a:prstGeom prst="wedgeEllipseCallout">
            <a:avLst>
              <a:gd name="adj1" fmla="val -2305"/>
              <a:gd name="adj2" fmla="val -92393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l’onglet animateur de l’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Bulle ronde 19"/>
          <p:cNvSpPr/>
          <p:nvPr/>
        </p:nvSpPr>
        <p:spPr>
          <a:xfrm>
            <a:off x="0" y="1268280"/>
            <a:ext cx="1785960" cy="785880"/>
          </a:xfrm>
          <a:prstGeom prst="wedgeEllipseCallout">
            <a:avLst>
              <a:gd name="adj1" fmla="val -12578"/>
              <a:gd name="adj2" fmla="val 17343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Bulle ronde 12"/>
          <p:cNvSpPr/>
          <p:nvPr/>
        </p:nvSpPr>
        <p:spPr>
          <a:xfrm>
            <a:off x="714240" y="5357880"/>
            <a:ext cx="1785960" cy="785880"/>
          </a:xfrm>
          <a:prstGeom prst="wedgeEllipseCallout">
            <a:avLst>
              <a:gd name="adj1" fmla="val 66268"/>
              <a:gd name="adj2" fmla="val -5949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Bulle ronde 20"/>
          <p:cNvSpPr/>
          <p:nvPr/>
        </p:nvSpPr>
        <p:spPr>
          <a:xfrm>
            <a:off x="285840" y="3857760"/>
            <a:ext cx="2000160" cy="785520"/>
          </a:xfrm>
          <a:prstGeom prst="wedgeEllipseCallout">
            <a:avLst>
              <a:gd name="adj1" fmla="val -13689"/>
              <a:gd name="adj2" fmla="val -112666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à coins arrondis 13"/>
          <p:cNvSpPr/>
          <p:nvPr/>
        </p:nvSpPr>
        <p:spPr>
          <a:xfrm>
            <a:off x="2771640" y="4437000"/>
            <a:ext cx="2286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Bulle ronde 15"/>
          <p:cNvSpPr/>
          <p:nvPr/>
        </p:nvSpPr>
        <p:spPr>
          <a:xfrm>
            <a:off x="6300720" y="5661000"/>
            <a:ext cx="2000160" cy="785880"/>
          </a:xfrm>
          <a:prstGeom prst="wedgeEllipseCallout">
            <a:avLst>
              <a:gd name="adj1" fmla="val -53569"/>
              <a:gd name="adj2" fmla="val -95254"/>
            </a:avLst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ien vers Ecran de mod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à coins arrondis 16"/>
          <p:cNvSpPr/>
          <p:nvPr/>
        </p:nvSpPr>
        <p:spPr>
          <a:xfrm>
            <a:off x="5200560" y="4437000"/>
            <a:ext cx="2286000" cy="857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0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13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réation d’une AC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8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E0A8-B52E-4A75-A07C-0257AB8A0B48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ulle ronde 5"/>
          <p:cNvSpPr/>
          <p:nvPr/>
        </p:nvSpPr>
        <p:spPr>
          <a:xfrm>
            <a:off x="6732720" y="5229360"/>
            <a:ext cx="1979640" cy="647640"/>
          </a:xfrm>
          <a:prstGeom prst="wedgeEllipseCallout">
            <a:avLst>
              <a:gd name="adj1" fmla="val 34842"/>
              <a:gd name="adj2" fmla="val -178430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dition des activités déjà cré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ulle ronde 5"/>
          <p:cNvSpPr/>
          <p:nvPr/>
        </p:nvSpPr>
        <p:spPr>
          <a:xfrm>
            <a:off x="971640" y="5516640"/>
            <a:ext cx="1979640" cy="642960"/>
          </a:xfrm>
          <a:prstGeom prst="wedgeEllipseCallout">
            <a:avLst>
              <a:gd name="adj1" fmla="val 113351"/>
              <a:gd name="adj2" fmla="val -31726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registrement en cours de sa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ulle ronde 5"/>
          <p:cNvSpPr/>
          <p:nvPr/>
        </p:nvSpPr>
        <p:spPr>
          <a:xfrm>
            <a:off x="5651640" y="6021360"/>
            <a:ext cx="1979640" cy="531720"/>
          </a:xfrm>
          <a:prstGeom prst="wedgeEllipseCallout">
            <a:avLst>
              <a:gd name="adj1" fmla="val -18402"/>
              <a:gd name="adj2" fmla="val -132087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voi pour val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Bulle ronde 5"/>
          <p:cNvSpPr/>
          <p:nvPr/>
        </p:nvSpPr>
        <p:spPr>
          <a:xfrm>
            <a:off x="-181080" y="3141720"/>
            <a:ext cx="1513080" cy="642960"/>
          </a:xfrm>
          <a:prstGeom prst="wedgeEllipseCallout">
            <a:avLst>
              <a:gd name="adj1" fmla="val 75601"/>
              <a:gd name="adj2" fmla="val -51976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hoix du type d’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Bulle ronde 5"/>
          <p:cNvSpPr/>
          <p:nvPr/>
        </p:nvSpPr>
        <p:spPr>
          <a:xfrm>
            <a:off x="5715000" y="2714760"/>
            <a:ext cx="1979640" cy="642960"/>
          </a:xfrm>
          <a:prstGeom prst="wedgeEllipseCallout">
            <a:avLst>
              <a:gd name="adj1" fmla="val -169805"/>
              <a:gd name="adj2" fmla="val 3592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aisie par ong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Bulle ronde 5"/>
          <p:cNvSpPr/>
          <p:nvPr/>
        </p:nvSpPr>
        <p:spPr>
          <a:xfrm>
            <a:off x="7164360" y="2071800"/>
            <a:ext cx="1979640" cy="642960"/>
          </a:xfrm>
          <a:prstGeom prst="wedgeEllipseCallout">
            <a:avLst>
              <a:gd name="adj1" fmla="val -23537"/>
              <a:gd name="adj2" fmla="val -5592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rdre d’apparition dans l’annu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réation d’une ACS(1)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394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1B1C-3045-42AE-ACA5-6D26C5F81F8F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6726240" cy="4991040"/>
          </a:xfrm>
          <a:prstGeom prst="rect">
            <a:avLst/>
          </a:prstGeom>
          <a:ln w="0">
            <a:noFill/>
          </a:ln>
        </p:spPr>
      </p:pic>
      <p:sp>
        <p:nvSpPr>
          <p:cNvPr id="397" name="Bulle ronde 11"/>
          <p:cNvSpPr/>
          <p:nvPr/>
        </p:nvSpPr>
        <p:spPr>
          <a:xfrm>
            <a:off x="4211640" y="1700280"/>
            <a:ext cx="2286000" cy="649080"/>
          </a:xfrm>
          <a:prstGeom prst="wedgeEllipseCallout">
            <a:avLst>
              <a:gd name="adj1" fmla="val -133194"/>
              <a:gd name="adj2" fmla="val 179583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nglet supplémentaire : Doma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Espace réservé du contenu 2"/>
          <p:cNvGrpSpPr/>
          <p:nvPr/>
        </p:nvGrpSpPr>
        <p:grpSpPr>
          <a:xfrm>
            <a:off x="5291280" y="3645000"/>
            <a:ext cx="3852720" cy="1798560"/>
            <a:chOff x="5291280" y="3645000"/>
            <a:chExt cx="3852720" cy="1798560"/>
          </a:xfrm>
        </p:grpSpPr>
        <p:pic>
          <p:nvPicPr>
            <p:cNvPr id="39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5291280" y="3645000"/>
              <a:ext cx="38527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394240" y="3746520"/>
              <a:ext cx="364176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4600" indent="-44460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436ba7"/>
                  </a:solidFill>
                  <a:latin typeface="Calibri"/>
                </a:rPr>
                <a:t>Index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66760" indent="-44604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436ba7"/>
                  </a:solidFill>
                  <a:latin typeface="Calibri"/>
                  <a:ea typeface="Arial"/>
                </a:rPr>
                <a:t>Obligatoire sur des champs fonctionn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66760" indent="-44604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436ba7"/>
                  </a:solidFill>
                  <a:latin typeface="Calibri"/>
                  <a:ea typeface="Arial"/>
                </a:rPr>
                <a:t>Possible sur un champ thémat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réation d’une ACS(2)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837120" cy="4029120"/>
          </a:xfrm>
          <a:prstGeom prst="rect">
            <a:avLst/>
          </a:prstGeom>
          <a:ln w="0">
            <a:noFill/>
          </a:ln>
        </p:spPr>
      </p:pic>
      <p:grpSp>
        <p:nvGrpSpPr>
          <p:cNvPr id="403" name="Espace réservé du contenu 2"/>
          <p:cNvGrpSpPr/>
          <p:nvPr/>
        </p:nvGrpSpPr>
        <p:grpSpPr>
          <a:xfrm>
            <a:off x="4627440" y="3840120"/>
            <a:ext cx="4327560" cy="817560"/>
            <a:chOff x="4627440" y="3840120"/>
            <a:chExt cx="4327560" cy="817560"/>
          </a:xfrm>
        </p:grpSpPr>
        <p:pic>
          <p:nvPicPr>
            <p:cNvPr id="404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4627440" y="3840120"/>
              <a:ext cx="432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681440" y="3895560"/>
              <a:ext cx="42102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4600" indent="-44460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436ba7"/>
                  </a:solidFill>
                  <a:latin typeface="Calibri"/>
                </a:rPr>
                <a:t>Indexation </a:t>
              </a:r>
              <a:r>
                <a:rPr b="0" lang="fr-FR" sz="2000" spc="-1" strike="noStrike">
                  <a:solidFill>
                    <a:srgbClr val="436ba7"/>
                  </a:solidFill>
                  <a:latin typeface="Calibri"/>
                </a:rPr>
                <a:t>Obligatoire</a:t>
              </a:r>
              <a:br>
                <a:rPr sz="2000"/>
              </a:br>
              <a:r>
                <a:rPr b="0" lang="fr-FR" sz="2000" spc="-1" strike="noStrike">
                  <a:solidFill>
                    <a:srgbClr val="436ba7"/>
                  </a:solidFill>
                  <a:latin typeface="Calibri"/>
                </a:rPr>
                <a:t>sur un domaine et sous doma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694560" cy="5133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réation d’une AC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08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3C7-80E6-4093-B984-07A673C6DA0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Espace réservé du contenu 2"/>
          <p:cNvGrpSpPr/>
          <p:nvPr/>
        </p:nvGrpSpPr>
        <p:grpSpPr>
          <a:xfrm>
            <a:off x="5291280" y="3645000"/>
            <a:ext cx="3852720" cy="1798560"/>
            <a:chOff x="5291280" y="3645000"/>
            <a:chExt cx="3852720" cy="1798560"/>
          </a:xfrm>
        </p:grpSpPr>
        <p:pic>
          <p:nvPicPr>
            <p:cNvPr id="411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5291280" y="3645000"/>
              <a:ext cx="38527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394240" y="3746520"/>
              <a:ext cx="364176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4600" indent="-44460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436ba7"/>
                  </a:solidFill>
                  <a:latin typeface="Calibri"/>
                </a:rPr>
                <a:t>Index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66760" indent="-44604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436ba7"/>
                  </a:solidFill>
                  <a:latin typeface="Calibri"/>
                  <a:ea typeface="Arial"/>
                </a:rPr>
                <a:t>Obligatoire sur des champs fonctionn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66760" indent="-44604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436ba7"/>
                  </a:solidFill>
                  <a:latin typeface="Calibri"/>
                  <a:ea typeface="Arial"/>
                </a:rPr>
                <a:t>Possible sur un champ thémat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3" descr=""/>
          <p:cNvPicPr/>
          <p:nvPr/>
        </p:nvPicPr>
        <p:blipFill>
          <a:blip r:embed="rId1"/>
          <a:stretch/>
        </p:blipFill>
        <p:spPr>
          <a:xfrm>
            <a:off x="638280" y="1009800"/>
            <a:ext cx="7869240" cy="4838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Création d’une ACA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1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A67C-323A-4ECF-AEF1-02EC8039B94B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Espace réservé du contenu 2"/>
          <p:cNvGrpSpPr/>
          <p:nvPr/>
        </p:nvGrpSpPr>
        <p:grpSpPr>
          <a:xfrm>
            <a:off x="4932360" y="3925800"/>
            <a:ext cx="3851280" cy="1096920"/>
            <a:chOff x="4932360" y="3925800"/>
            <a:chExt cx="3851280" cy="1096920"/>
          </a:xfrm>
        </p:grpSpPr>
        <p:pic>
          <p:nvPicPr>
            <p:cNvPr id="418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4932360" y="3925800"/>
              <a:ext cx="38512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998960" y="3995640"/>
              <a:ext cx="37101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4600" indent="-444600">
                <a:lnSpc>
                  <a:spcPct val="80000"/>
                </a:lnSpc>
                <a:spcBef>
                  <a:spcPts val="499"/>
                </a:spcBef>
                <a:buClr>
                  <a:srgbClr val="f49100"/>
                </a:buClr>
                <a:buFont typeface="Calibri"/>
                <a:buChar char="•"/>
                <a:tabLst>
                  <a:tab algn="l" pos="1166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436ba7"/>
                  </a:solidFill>
                  <a:latin typeface="Calibri"/>
                </a:rPr>
                <a:t>Indexation </a:t>
              </a:r>
              <a:r>
                <a:rPr b="0" lang="fr-FR" sz="2000" spc="-1" strike="noStrike">
                  <a:solidFill>
                    <a:srgbClr val="436ba7"/>
                  </a:solidFill>
                  <a:latin typeface="Calibri"/>
                </a:rPr>
                <a:t>Obligatoire sur des champs fonctionn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2560" y="1428840"/>
            <a:ext cx="9001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78609"/>
                </a:solidFill>
                <a:latin typeface="Calibri"/>
              </a:rPr>
              <a:t>La description des activités collectives de l’institut</a:t>
            </a: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78609"/>
                </a:solidFill>
                <a:latin typeface="Calibri"/>
              </a:rPr>
              <a:t>Eléments-clé</a:t>
            </a:r>
            <a:endParaRPr b="0" lang="en-US" sz="44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50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E3D4-B18A-4F98-B6C4-A8FA841CE01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contenu 2"/>
          <p:cNvSpPr/>
          <p:nvPr/>
        </p:nvSpPr>
        <p:spPr>
          <a:xfrm>
            <a:off x="214200" y="4929120"/>
            <a:ext cx="8358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499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278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Editer le descriptif de ma structur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421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1CE-E027-4DB1-9FB9-AC1952B2429F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Image 7" descr="DepDescriptifStruct3.jpg"/>
          <p:cNvPicPr/>
          <p:nvPr/>
        </p:nvPicPr>
        <p:blipFill>
          <a:blip r:embed="rId1"/>
          <a:srcRect l="18058" t="0" r="19444" b="5878"/>
          <a:stretch/>
        </p:blipFill>
        <p:spPr>
          <a:xfrm>
            <a:off x="1071720" y="4570560"/>
            <a:ext cx="3214440" cy="2287440"/>
          </a:xfrm>
          <a:prstGeom prst="rect">
            <a:avLst/>
          </a:prstGeom>
          <a:ln w="0">
            <a:noFill/>
          </a:ln>
        </p:spPr>
      </p:pic>
      <p:pic>
        <p:nvPicPr>
          <p:cNvPr id="424" name="Espace réservé du contenu 5" descr="DepDescriptifStruct1.jpg"/>
          <p:cNvPicPr/>
          <p:nvPr/>
        </p:nvPicPr>
        <p:blipFill>
          <a:blip r:embed="rId2"/>
          <a:srcRect l="0" t="0" r="0" b="14003"/>
          <a:stretch/>
        </p:blipFill>
        <p:spPr>
          <a:xfrm>
            <a:off x="214200" y="1285920"/>
            <a:ext cx="7236000" cy="307188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DepDescriptifStruct2.jpg"/>
          <p:cNvPicPr/>
          <p:nvPr/>
        </p:nvPicPr>
        <p:blipFill>
          <a:blip r:embed="rId3"/>
          <a:srcRect l="19068" t="0" r="0" b="0"/>
          <a:stretch/>
        </p:blipFill>
        <p:spPr>
          <a:xfrm>
            <a:off x="4572000" y="3429000"/>
            <a:ext cx="4572000" cy="2643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à coins arrondis 8"/>
          <p:cNvSpPr/>
          <p:nvPr/>
        </p:nvSpPr>
        <p:spPr>
          <a:xfrm>
            <a:off x="0" y="2643120"/>
            <a:ext cx="1714680" cy="571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e référentiel des Activité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16430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Décrit les activités </a:t>
            </a:r>
            <a:r>
              <a:rPr b="1" lang="fr-FR" sz="3200" spc="-1" strike="noStrike">
                <a:solidFill>
                  <a:srgbClr val="436ba7"/>
                </a:solidFill>
                <a:latin typeface="Calibri"/>
              </a:rPr>
              <a:t>collectives 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de l’institu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Couvre</a:t>
            </a:r>
            <a:r>
              <a:rPr b="1" lang="fr-FR" sz="3200" spc="-1" strike="noStrike">
                <a:solidFill>
                  <a:srgbClr val="436ba7"/>
                </a:solidFill>
                <a:latin typeface="Calibri"/>
              </a:rPr>
              <a:t> l’ensemble des activités collectives 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e </a:t>
            </a:r>
            <a:r>
              <a:rPr b="1" lang="fr-FR" sz="2800" spc="-1" strike="noStrike">
                <a:solidFill>
                  <a:srgbClr val="436ba7"/>
                </a:solidFill>
                <a:latin typeface="Calibri"/>
              </a:rPr>
              <a:t>recherche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 (ACR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e </a:t>
            </a:r>
            <a:r>
              <a:rPr b="1" lang="fr-FR" sz="2800" spc="-1" strike="noStrike">
                <a:solidFill>
                  <a:srgbClr val="436ba7"/>
                </a:solidFill>
                <a:latin typeface="Calibri"/>
              </a:rPr>
              <a:t>support scientifique 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(ACS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</a:t>
            </a:r>
            <a:r>
              <a:rPr b="1" lang="fr-FR" sz="2800" spc="-1" strike="noStrike">
                <a:solidFill>
                  <a:srgbClr val="436ba7"/>
                </a:solidFill>
                <a:latin typeface="Calibri"/>
              </a:rPr>
              <a:t>expérimentales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 (ACE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ctivités collectives d’</a:t>
            </a:r>
            <a:r>
              <a:rPr b="1" lang="fr-FR" sz="2800" spc="-1" strike="noStrike">
                <a:solidFill>
                  <a:srgbClr val="436ba7"/>
                </a:solidFill>
                <a:latin typeface="Calibri"/>
              </a:rPr>
              <a:t>appui </a:t>
            </a: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à la recherche (ACA)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4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88C-7A7C-428D-973C-BD6AC4047E7C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Une dimension collective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62864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s activités correspondent à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équipe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Des projet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Au moins 2 personnes à 20% de leur temps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1800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Elles sont portées par des animateur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as de suivi des activités individuelles ni des compétences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51D5-EC92-42F6-A76C-582543E6197E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4"/>
          <p:cNvSpPr/>
          <p:nvPr/>
        </p:nvSpPr>
        <p:spPr>
          <a:xfrm>
            <a:off x="4000680" y="2357280"/>
            <a:ext cx="4357440" cy="735840"/>
          </a:xfrm>
          <a:prstGeom prst="ellipse">
            <a:avLst/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9100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491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f49100"/>
                </a:solidFill>
                <a:latin typeface="Calibri"/>
              </a:rPr>
              <a:t>Collectif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5"/>
          <p:cNvSpPr/>
          <p:nvPr/>
        </p:nvSpPr>
        <p:spPr>
          <a:xfrm>
            <a:off x="4000680" y="2357280"/>
            <a:ext cx="4214520" cy="735840"/>
          </a:xfrm>
          <a:prstGeom prst="ellipse">
            <a:avLst/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49100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491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f49100"/>
                </a:solidFill>
                <a:latin typeface="Calibri"/>
              </a:rPr>
              <a:t>collectif </a:t>
            </a:r>
            <a:r>
              <a:rPr b="1" lang="fr-FR" sz="2800" spc="-1" strike="noStrike">
                <a:solidFill>
                  <a:srgbClr val="c00000"/>
                </a:solidFill>
                <a:latin typeface="Calibri"/>
              </a:rPr>
              <a:t>ani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Multiplier 9"/>
          <p:cNvSpPr/>
          <p:nvPr/>
        </p:nvSpPr>
        <p:spPr>
          <a:xfrm>
            <a:off x="714240" y="4429080"/>
            <a:ext cx="1643040" cy="1500120"/>
          </a:xfrm>
          <a:custGeom>
            <a:avLst/>
            <a:gdLst>
              <a:gd name="textAreaLeft" fmla="*/ 275400 w 1643040"/>
              <a:gd name="textAreaRight" fmla="*/ 1367640 w 1643040"/>
              <a:gd name="textAreaTop" fmla="*/ 230040 h 1500120"/>
              <a:gd name="textAreaBottom" fmla="*/ 1270080 h 1500120"/>
            </a:gdLst>
            <a:ahLst/>
            <a:rect l="textAreaLeft" t="textAreaTop" r="textAreaRight" b="textAreaBottom"/>
            <a:pathLst>
              <a:path w="1643063" h="1500188">
                <a:moveTo>
                  <a:pt x="275667" y="490593"/>
                </a:moveTo>
                <a:lnTo>
                  <a:pt x="513579" y="230022"/>
                </a:lnTo>
                <a:lnTo>
                  <a:pt x="821532" y="511197"/>
                </a:lnTo>
                <a:lnTo>
                  <a:pt x="1129484" y="230022"/>
                </a:lnTo>
                <a:lnTo>
                  <a:pt x="1367396" y="490593"/>
                </a:lnTo>
                <a:lnTo>
                  <a:pt x="1083181" y="750094"/>
                </a:lnTo>
                <a:lnTo>
                  <a:pt x="1367396" y="1009595"/>
                </a:lnTo>
                <a:lnTo>
                  <a:pt x="1129484" y="1270166"/>
                </a:lnTo>
                <a:lnTo>
                  <a:pt x="821532" y="988991"/>
                </a:lnTo>
                <a:lnTo>
                  <a:pt x="513579" y="1270166"/>
                </a:lnTo>
                <a:lnTo>
                  <a:pt x="275667" y="1009595"/>
                </a:lnTo>
                <a:lnTo>
                  <a:pt x="559882" y="750094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ux visions parallèles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55280" y="1628640"/>
            <a:ext cx="771516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a contribution à des axes de recherch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6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01AB-08D0-44A2-AB27-8AE205490DE8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contenu 2"/>
          <p:cNvSpPr/>
          <p:nvPr/>
        </p:nvSpPr>
        <p:spPr>
          <a:xfrm>
            <a:off x="857160" y="2928960"/>
            <a:ext cx="77155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166760" indent="-44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Le soutien à la recherch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Support scient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Expé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446040">
              <a:lnSpc>
                <a:spcPct val="100000"/>
              </a:lnSpc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  <a:ea typeface="Arial"/>
              </a:rPr>
              <a:t>App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llipse 6"/>
          <p:cNvSpPr/>
          <p:nvPr/>
        </p:nvSpPr>
        <p:spPr>
          <a:xfrm>
            <a:off x="2357280" y="2357280"/>
            <a:ext cx="3357720" cy="928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mps thématiques de 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llipse 7"/>
          <p:cNvSpPr/>
          <p:nvPr/>
        </p:nvSpPr>
        <p:spPr>
          <a:xfrm>
            <a:off x="5357880" y="4214880"/>
            <a:ext cx="3357360" cy="9288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mps fonct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La création d’une activité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5280" y="1628640"/>
            <a:ext cx="74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 l’initiative de l’unité porteus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(= unité leader)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lvl="1" marL="1166760" indent="-446040">
              <a:spcBef>
                <a:spcPts val="700"/>
              </a:spcBef>
              <a:buClr>
                <a:srgbClr val="f4910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36ba7"/>
                </a:solidFill>
                <a:latin typeface="Calibri"/>
              </a:rPr>
              <a:t>Lettre de mission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près évaluation</a:t>
            </a:r>
            <a:endParaRPr b="0" lang="en-US" sz="28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Proposée au chef de département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36ba7"/>
                </a:solidFill>
                <a:latin typeface="Calibri"/>
              </a:rPr>
              <a:t>Après validation, visible dans l’annuaire si description complète</a:t>
            </a: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  <a:p>
            <a:pPr marL="444600" indent="-444600">
              <a:spcBef>
                <a:spcPts val="799"/>
              </a:spcBef>
              <a:buClr>
                <a:srgbClr val="f491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6ba7"/>
              </a:solidFill>
              <a:latin typeface="Calibri"/>
            </a:endParaRPr>
          </a:p>
        </p:txBody>
      </p:sp>
      <p:sp>
        <p:nvSpPr>
          <p:cNvPr id="172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BF66-AA56-414C-A1F7-850C13A35077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3971b"/>
                </a:solidFill>
                <a:latin typeface="Calibri"/>
              </a:rPr>
              <a:t>Description d’une ACR</a:t>
            </a:r>
            <a:endParaRPr b="0" lang="en-US" sz="4400" spc="-1" strike="noStrike">
              <a:solidFill>
                <a:srgbClr val="f3971b"/>
              </a:solidFill>
              <a:latin typeface="Calibri"/>
            </a:endParaRPr>
          </a:p>
        </p:txBody>
      </p:sp>
      <p:sp>
        <p:nvSpPr>
          <p:cNvPr id="175" name="Espace réservé du pied de page 3"/>
          <p:cNvSpPr/>
          <p:nvPr/>
        </p:nvSpPr>
        <p:spPr>
          <a:xfrm>
            <a:off x="29876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6443640" y="652464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954-6DCB-4D65-8C8D-D42E8D26795A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5"/>
          <p:cNvSpPr/>
          <p:nvPr/>
        </p:nvSpPr>
        <p:spPr>
          <a:xfrm>
            <a:off x="4143240" y="3000240"/>
            <a:ext cx="1000440" cy="928800"/>
          </a:xfrm>
          <a:prstGeom prst="ellipse">
            <a:avLst/>
          </a:prstGeom>
          <a:noFill/>
          <a:ln w="2556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A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à coins arrondis 6"/>
          <p:cNvSpPr/>
          <p:nvPr/>
        </p:nvSpPr>
        <p:spPr>
          <a:xfrm>
            <a:off x="1214280" y="31431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ad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36ba7"/>
                </a:solidFill>
                <a:latin typeface="Arial"/>
              </a:rPr>
              <a:t>Unité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èche droite rayée 7"/>
          <p:cNvSpPr/>
          <p:nvPr/>
        </p:nvSpPr>
        <p:spPr>
          <a:xfrm>
            <a:off x="2786040" y="3214800"/>
            <a:ext cx="1285920" cy="428400"/>
          </a:xfrm>
          <a:custGeom>
            <a:avLst/>
            <a:gdLst>
              <a:gd name="textAreaLeft" fmla="*/ 66960 w 1285920"/>
              <a:gd name="textAreaRight" fmla="*/ 1214640 w 1285920"/>
              <a:gd name="textAreaTop" fmla="*/ 135720 h 428400"/>
              <a:gd name="textAreaBottom" fmla="*/ 292680 h 428400"/>
            </a:gdLst>
            <a:ahLst/>
            <a:rect l="textAreaLeft" t="textAreaTop" r="textAreaRight" b="textAreaBottom"/>
            <a:pathLst>
              <a:path w="1285875" h="428625">
                <a:moveTo>
                  <a:pt x="0" y="135733"/>
                </a:moveTo>
                <a:lnTo>
                  <a:pt x="13395" y="135733"/>
                </a:lnTo>
                <a:lnTo>
                  <a:pt x="13395" y="292892"/>
                </a:lnTo>
                <a:lnTo>
                  <a:pt x="0" y="292892"/>
                </a:lnTo>
                <a:close/>
                <a:moveTo>
                  <a:pt x="26789" y="135733"/>
                </a:moveTo>
                <a:lnTo>
                  <a:pt x="53578" y="135733"/>
                </a:lnTo>
                <a:lnTo>
                  <a:pt x="53578" y="292892"/>
                </a:lnTo>
                <a:lnTo>
                  <a:pt x="26789" y="292892"/>
                </a:lnTo>
                <a:close/>
                <a:moveTo>
                  <a:pt x="66973" y="135733"/>
                </a:moveTo>
                <a:lnTo>
                  <a:pt x="1090611" y="135733"/>
                </a:lnTo>
                <a:lnTo>
                  <a:pt x="1090611" y="0"/>
                </a:lnTo>
                <a:lnTo>
                  <a:pt x="1285875" y="214313"/>
                </a:lnTo>
                <a:lnTo>
                  <a:pt x="1090611" y="428625"/>
                </a:lnTo>
                <a:lnTo>
                  <a:pt x="1090611" y="292892"/>
                </a:lnTo>
                <a:lnTo>
                  <a:pt x="66973" y="292892"/>
                </a:lnTo>
                <a:close/>
              </a:path>
            </a:pathLst>
          </a:custGeom>
          <a:solidFill>
            <a:srgbClr val="fad5a4"/>
          </a:solidFill>
          <a:ln w="25560">
            <a:solidFill>
              <a:srgbClr val="f4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0"/>
          <p:cNvSpPr/>
          <p:nvPr/>
        </p:nvSpPr>
        <p:spPr>
          <a:xfrm>
            <a:off x="5000760" y="4000680"/>
            <a:ext cx="3143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otité chercheurs/ingéni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ticipation forfaitaire des agents des autres caté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à coins arrondis 10"/>
          <p:cNvSpPr/>
          <p:nvPr/>
        </p:nvSpPr>
        <p:spPr>
          <a:xfrm>
            <a:off x="3786120" y="4857840"/>
            <a:ext cx="1928880" cy="428400"/>
          </a:xfrm>
          <a:prstGeom prst="roundRect">
            <a:avLst>
              <a:gd name="adj" fmla="val 16667"/>
            </a:avLst>
          </a:prstGeom>
          <a:solidFill>
            <a:srgbClr val="7c9cc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lèche droite rayée 12"/>
          <p:cNvSpPr/>
          <p:nvPr/>
        </p:nvSpPr>
        <p:spPr>
          <a:xfrm rot="16200000">
            <a:off x="4357800" y="4214880"/>
            <a:ext cx="714240" cy="428400"/>
          </a:xfrm>
          <a:custGeom>
            <a:avLst/>
            <a:gdLst>
              <a:gd name="textAreaLeft" fmla="*/ 66960 w 714240"/>
              <a:gd name="textAreaRight" fmla="*/ 607320 w 714240"/>
              <a:gd name="textAreaTop" fmla="*/ 106920 h 428400"/>
              <a:gd name="textAreaBottom" fmla="*/ 321480 h 428400"/>
            </a:gdLst>
            <a:ahLst/>
            <a:rect l="textAreaLeft" t="textAreaTop" r="textAreaRight" b="textAreaBottom"/>
            <a:pathLst>
              <a:path w="714375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close/>
                <a:moveTo>
                  <a:pt x="66973" y="107156"/>
                </a:moveTo>
                <a:lnTo>
                  <a:pt x="500063" y="107156"/>
                </a:lnTo>
                <a:lnTo>
                  <a:pt x="500063" y="0"/>
                </a:lnTo>
                <a:lnTo>
                  <a:pt x="714375" y="214313"/>
                </a:lnTo>
                <a:lnTo>
                  <a:pt x="500063" y="428625"/>
                </a:lnTo>
                <a:lnTo>
                  <a:pt x="500063" y="321469"/>
                </a:lnTo>
                <a:lnTo>
                  <a:pt x="66973" y="321469"/>
                </a:lnTo>
                <a:close/>
              </a:path>
            </a:pathLst>
          </a:custGeom>
          <a:solidFill>
            <a:srgbClr val="7c9cca"/>
          </a:solidFill>
          <a:ln w="25560">
            <a:solidFill>
              <a:srgbClr val="436b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15"/>
          <p:cNvSpPr/>
          <p:nvPr/>
        </p:nvSpPr>
        <p:spPr>
          <a:xfrm>
            <a:off x="6429240" y="2857680"/>
            <a:ext cx="1571760" cy="357120"/>
          </a:xfrm>
          <a:prstGeom prst="wedgeRoundRectCallout">
            <a:avLst>
              <a:gd name="adj1" fmla="val -123509"/>
              <a:gd name="adj2" fmla="val 102499"/>
              <a:gd name="adj3" fmla="val 16667"/>
            </a:avLst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e 19"/>
          <p:cNvGrpSpPr/>
          <p:nvPr/>
        </p:nvGrpSpPr>
        <p:grpSpPr>
          <a:xfrm>
            <a:off x="1214280" y="3706560"/>
            <a:ext cx="2960280" cy="1079640"/>
            <a:chOff x="1214280" y="3706560"/>
            <a:chExt cx="2960280" cy="1079640"/>
          </a:xfrm>
        </p:grpSpPr>
        <p:sp>
          <p:nvSpPr>
            <p:cNvPr id="185" name="Rectangle à coins arrondis 16"/>
            <p:cNvSpPr/>
            <p:nvPr/>
          </p:nvSpPr>
          <p:spPr>
            <a:xfrm>
              <a:off x="1214280" y="4143240"/>
              <a:ext cx="1428840" cy="642960"/>
            </a:xfrm>
            <a:prstGeom prst="roundRect">
              <a:avLst>
                <a:gd name="adj" fmla="val 16667"/>
              </a:avLst>
            </a:prstGeom>
            <a:solidFill>
              <a:srgbClr val="fad5a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Unité partici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lèche droite rayée 17"/>
            <p:cNvSpPr/>
            <p:nvPr/>
          </p:nvSpPr>
          <p:spPr>
            <a:xfrm rot="20359200">
              <a:off x="2854440" y="3919320"/>
              <a:ext cx="1285920" cy="428400"/>
            </a:xfrm>
            <a:custGeom>
              <a:avLst/>
              <a:gdLst>
                <a:gd name="textAreaLeft" fmla="*/ 66960 w 1285920"/>
                <a:gd name="textAreaRight" fmla="*/ 1214640 w 1285920"/>
                <a:gd name="textAreaTop" fmla="*/ 135720 h 428400"/>
                <a:gd name="textAreaBottom" fmla="*/ 292680 h 428400"/>
              </a:gdLst>
              <a:ahLst/>
              <a:rect l="textAreaLeft" t="textAreaTop" r="textAreaRight" b="textAreaBottom"/>
              <a:pathLst>
                <a:path w="1285875" h="428625">
                  <a:moveTo>
                    <a:pt x="0" y="135733"/>
                  </a:moveTo>
                  <a:lnTo>
                    <a:pt x="13395" y="135733"/>
                  </a:lnTo>
                  <a:lnTo>
                    <a:pt x="13395" y="292892"/>
                  </a:lnTo>
                  <a:lnTo>
                    <a:pt x="0" y="292892"/>
                  </a:lnTo>
                  <a:close/>
                  <a:moveTo>
                    <a:pt x="26789" y="135733"/>
                  </a:moveTo>
                  <a:lnTo>
                    <a:pt x="53578" y="135733"/>
                  </a:lnTo>
                  <a:lnTo>
                    <a:pt x="53578" y="292892"/>
                  </a:lnTo>
                  <a:lnTo>
                    <a:pt x="26789" y="292892"/>
                  </a:lnTo>
                  <a:close/>
                  <a:moveTo>
                    <a:pt x="66973" y="135733"/>
                  </a:moveTo>
                  <a:lnTo>
                    <a:pt x="1090611" y="135733"/>
                  </a:lnTo>
                  <a:lnTo>
                    <a:pt x="1090611" y="0"/>
                  </a:lnTo>
                  <a:lnTo>
                    <a:pt x="1285875" y="214313"/>
                  </a:lnTo>
                  <a:lnTo>
                    <a:pt x="1090611" y="428625"/>
                  </a:lnTo>
                  <a:lnTo>
                    <a:pt x="1090611" y="292892"/>
                  </a:lnTo>
                  <a:lnTo>
                    <a:pt x="66973" y="292892"/>
                  </a:lnTo>
                  <a:close/>
                </a:path>
              </a:pathLst>
            </a:custGeom>
            <a:solidFill>
              <a:srgbClr val="fad5a4">
                <a:alpha val="51000"/>
              </a:srgbClr>
            </a:solidFill>
            <a:ln w="25560">
              <a:solidFill>
                <a:srgbClr val="fad5a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à coins arrondis 18"/>
          <p:cNvSpPr/>
          <p:nvPr/>
        </p:nvSpPr>
        <p:spPr>
          <a:xfrm>
            <a:off x="3786120" y="542916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7c9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imateu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e 20"/>
          <p:cNvGrpSpPr/>
          <p:nvPr/>
        </p:nvGrpSpPr>
        <p:grpSpPr>
          <a:xfrm>
            <a:off x="2143080" y="1214280"/>
            <a:ext cx="4071960" cy="1714320"/>
            <a:chOff x="2143080" y="1214280"/>
            <a:chExt cx="4071960" cy="1714320"/>
          </a:xfrm>
        </p:grpSpPr>
        <p:sp>
          <p:nvSpPr>
            <p:cNvPr id="189" name="Rectangle à coins arrondis 8"/>
            <p:cNvSpPr/>
            <p:nvPr/>
          </p:nvSpPr>
          <p:spPr>
            <a:xfrm>
              <a:off x="3571920" y="1499760"/>
              <a:ext cx="2000160" cy="9288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Champs thé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36ba7"/>
                  </a:solidFill>
                  <a:latin typeface="Arial"/>
                </a:rPr>
                <a:t>(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lèche droite rayée 11"/>
            <p:cNvSpPr/>
            <p:nvPr/>
          </p:nvSpPr>
          <p:spPr>
            <a:xfrm rot="16200000">
              <a:off x="4429080" y="2500200"/>
              <a:ext cx="428400" cy="428400"/>
            </a:xfrm>
            <a:custGeom>
              <a:avLst/>
              <a:gdLst>
                <a:gd name="textAreaLeft" fmla="*/ 66960 w 428400"/>
                <a:gd name="textAreaRight" fmla="*/ 321480 w 42840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428625" h="428625">
                  <a:moveTo>
                    <a:pt x="0" y="107156"/>
                  </a:moveTo>
                  <a:lnTo>
                    <a:pt x="13395" y="107156"/>
                  </a:lnTo>
                  <a:lnTo>
                    <a:pt x="13395" y="321469"/>
                  </a:lnTo>
                  <a:lnTo>
                    <a:pt x="0" y="321469"/>
                  </a:lnTo>
                  <a:close/>
                  <a:moveTo>
                    <a:pt x="26789" y="107156"/>
                  </a:moveTo>
                  <a:lnTo>
                    <a:pt x="53578" y="107156"/>
                  </a:lnTo>
                  <a:lnTo>
                    <a:pt x="53578" y="321469"/>
                  </a:lnTo>
                  <a:lnTo>
                    <a:pt x="26789" y="321469"/>
                  </a:lnTo>
                  <a:close/>
                  <a:moveTo>
                    <a:pt x="66973" y="107156"/>
                  </a:moveTo>
                  <a:lnTo>
                    <a:pt x="214313" y="107156"/>
                  </a:lnTo>
                  <a:lnTo>
                    <a:pt x="214313" y="0"/>
                  </a:lnTo>
                  <a:lnTo>
                    <a:pt x="428625" y="214313"/>
                  </a:lnTo>
                  <a:lnTo>
                    <a:pt x="214313" y="428625"/>
                  </a:lnTo>
                  <a:lnTo>
                    <a:pt x="214313" y="321469"/>
                  </a:lnTo>
                  <a:lnTo>
                    <a:pt x="66973" y="321469"/>
                  </a:lnTo>
                  <a:close/>
                </a:path>
              </a:pathLst>
            </a:custGeom>
            <a:noFill/>
            <a:ln w="25560">
              <a:solidFill>
                <a:srgbClr val="f4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à coins arrondis 13"/>
            <p:cNvSpPr/>
            <p:nvPr/>
          </p:nvSpPr>
          <p:spPr>
            <a:xfrm>
              <a:off x="2143080" y="1214280"/>
              <a:ext cx="4071960" cy="1214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épart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ZoneTexte 19"/>
            <p:cNvSpPr/>
            <p:nvPr/>
          </p:nvSpPr>
          <p:spPr>
            <a:xfrm>
              <a:off x="5357880" y="16426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00000"/>
                  </a:solidFill>
                  <a:latin typeface="Arial"/>
                </a:rPr>
                <a:t>2 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7:26:56Z</dcterms:created>
  <dc:creator>ADalmon</dc:creator>
  <dc:description/>
  <dc:language>en-US</dc:language>
  <cp:lastModifiedBy>adalmon</cp:lastModifiedBy>
  <dcterms:modified xsi:type="dcterms:W3CDTF">2011-04-28T09:56:33Z</dcterms:modified>
  <cp:revision>31</cp:revision>
  <dc:subject/>
  <dc:title>Diapositive 1</dc:title>
</cp:coreProperties>
</file>